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1759-C6BA-499B-9CCB-811AD93DD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579E-EAE4-4403-8B36-353CCF0C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51DD-5BEC-48AC-AA18-5934B21E5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61FD-4D34-430F-8294-136B2E9F2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61BC-80EB-496D-8007-B89D522A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6027-B046-4D56-ACEC-506C0ED1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866A-B2EB-4D30-B5ED-1612869A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50A7-4BA8-43BF-B2FE-C323BDD9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5863-C8A9-4A4C-B760-D9FD2702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3BA2-E911-48A4-8921-ED308F93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9ADC-5F56-46AA-90C9-CE99C3F8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07A9-5544-4196-A3AF-0CB2D278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1261-A362-4538-9455-4511FBF7D4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Содержимое 3" descr="Рисунок1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Tahoma"/>
              </a:rPr>
              <a:t>Загадки </a:t>
            </a: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Tahoma"/>
              </a:rPr>
              <a:t>«Музыкальные инструменты»</a:t>
            </a: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Tahoma"/>
              </a:rPr>
              <a:t>по музыке</a:t>
            </a: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Tahoma"/>
              </a:rPr>
              <a:t> 4 кла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340000" y="4724280"/>
            <a:ext cx="4633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Составила учитель музы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ГБОУ СОШ №2«Образовательный центр» с.Кинель-Черкассы Самарской области Постникова Татьяна Рома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Прямоугольник 4"/>
          <p:cNvGrpSpPr/>
          <p:nvPr/>
        </p:nvGrpSpPr>
        <p:grpSpPr>
          <a:xfrm>
            <a:off x="1584360" y="1731960"/>
            <a:ext cx="6267240" cy="3681360"/>
            <a:chOff x="1584360" y="1731960"/>
            <a:chExt cx="6267240" cy="3681360"/>
          </a:xfrm>
        </p:grpSpPr>
        <p:pic>
          <p:nvPicPr>
            <p:cNvPr id="95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1584360" y="1731960"/>
              <a:ext cx="6267240" cy="36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04880" y="1751040"/>
              <a:ext cx="6229440" cy="36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Rectangle 7"/>
          <p:cNvSpPr/>
          <p:nvPr/>
        </p:nvSpPr>
        <p:spPr>
          <a:xfrm>
            <a:off x="1774440" y="1485360"/>
            <a:ext cx="560304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В  руки  ты  её  возьмёшь,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То  растянешь,  то  сожмёшь!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Звонкая,  нарядная,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Русская двухрядная.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Заиграет,  только тронь.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Как  зовут  её? . . . . . . .  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Рада  вам  она  играть,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Приглашает  попляса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Прямоугольник 4"/>
          <p:cNvGrpSpPr/>
          <p:nvPr/>
        </p:nvGrpSpPr>
        <p:grpSpPr>
          <a:xfrm>
            <a:off x="884160" y="1676520"/>
            <a:ext cx="7437600" cy="3790800"/>
            <a:chOff x="884160" y="1676520"/>
            <a:chExt cx="7437600" cy="3790800"/>
          </a:xfrm>
        </p:grpSpPr>
        <p:pic>
          <p:nvPicPr>
            <p:cNvPr id="101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884160" y="1676520"/>
              <a:ext cx="7437600" cy="37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920880" y="1751040"/>
              <a:ext cx="7289640" cy="36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Rectangle 7"/>
          <p:cNvSpPr/>
          <p:nvPr/>
        </p:nvSpPr>
        <p:spPr>
          <a:xfrm>
            <a:off x="1187280" y="2599920"/>
            <a:ext cx="692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Lucida Console"/>
              </a:rPr>
              <a:t>СПАСИБ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Прямоугольник 4"/>
          <p:cNvGrpSpPr/>
          <p:nvPr/>
        </p:nvGrpSpPr>
        <p:grpSpPr>
          <a:xfrm>
            <a:off x="1584360" y="1731960"/>
            <a:ext cx="6267240" cy="3608280"/>
            <a:chOff x="1584360" y="1731960"/>
            <a:chExt cx="6267240" cy="3608280"/>
          </a:xfrm>
        </p:grpSpPr>
        <p:pic>
          <p:nvPicPr>
            <p:cNvPr id="47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1584360" y="1731960"/>
              <a:ext cx="6267240" cy="36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1604880" y="1749600"/>
              <a:ext cx="6229440" cy="35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ectangle 12"/>
          <p:cNvSpPr/>
          <p:nvPr/>
        </p:nvSpPr>
        <p:spPr>
          <a:xfrm>
            <a:off x="1653480" y="1414080"/>
            <a:ext cx="62388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Tahoma"/>
              </a:rPr>
              <a:t>Ой,  звенит  она,  звенит,</a:t>
            </a:r>
            <a:br>
              <a:rPr sz="3600"/>
            </a:br>
            <a:r>
              <a:rPr b="1" lang="ru-RU" sz="3600" spc="-1" strike="noStrike">
                <a:solidFill>
                  <a:srgbClr val="ff6600"/>
                </a:solidFill>
                <a:latin typeface="Tahoma"/>
              </a:rPr>
              <a:t>Всех  игрою веселит!</a:t>
            </a:r>
            <a:br>
              <a:rPr sz="3600"/>
            </a:br>
            <a:r>
              <a:rPr b="1" lang="ru-RU" sz="3600" spc="-1" strike="noStrike">
                <a:solidFill>
                  <a:srgbClr val="ff6600"/>
                </a:solidFill>
                <a:latin typeface="Tahoma"/>
              </a:rPr>
              <a:t>А  всего-то  три  струны</a:t>
            </a:r>
            <a:br>
              <a:rPr sz="3600"/>
            </a:br>
            <a:r>
              <a:rPr b="1" lang="ru-RU" sz="3600" spc="-1" strike="noStrike">
                <a:solidFill>
                  <a:srgbClr val="ff6600"/>
                </a:solidFill>
                <a:latin typeface="Tahoma"/>
              </a:rPr>
              <a:t>Ей  для  музыки  нужны.</a:t>
            </a:r>
            <a:br>
              <a:rPr sz="3600"/>
            </a:br>
            <a:r>
              <a:rPr b="1" lang="ru-RU" sz="3600" spc="-1" strike="noStrike">
                <a:solidFill>
                  <a:srgbClr val="ff6600"/>
                </a:solidFill>
                <a:latin typeface="Tahoma"/>
              </a:rPr>
              <a:t>Кто  такая?  Отгадай-ка,</a:t>
            </a:r>
            <a:br>
              <a:rPr sz="3600"/>
            </a:br>
            <a:r>
              <a:rPr b="1" lang="ru-RU" sz="3600" spc="-1" strike="noStrike">
                <a:solidFill>
                  <a:srgbClr val="ff6600"/>
                </a:solidFill>
                <a:latin typeface="Tahoma"/>
              </a:rPr>
              <a:t>Это  наша . . . . . .</a:t>
            </a: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250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Прямоугольник 4"/>
          <p:cNvGrpSpPr/>
          <p:nvPr/>
        </p:nvGrpSpPr>
        <p:grpSpPr>
          <a:xfrm>
            <a:off x="1584360" y="1731960"/>
            <a:ext cx="6267240" cy="3681360"/>
            <a:chOff x="1584360" y="1731960"/>
            <a:chExt cx="6267240" cy="3681360"/>
          </a:xfrm>
        </p:grpSpPr>
        <p:pic>
          <p:nvPicPr>
            <p:cNvPr id="53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1584360" y="1731960"/>
              <a:ext cx="6267240" cy="36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604880" y="1751040"/>
              <a:ext cx="6229440" cy="36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7"/>
          <p:cNvSpPr/>
          <p:nvPr/>
        </p:nvSpPr>
        <p:spPr>
          <a:xfrm>
            <a:off x="1815120" y="1715760"/>
            <a:ext cx="4638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Tahoma"/>
              </a:rPr>
              <a:t>Дом   пустой, </a:t>
            </a:r>
            <a:br>
              <a:rPr sz="3600"/>
            </a:br>
            <a:r>
              <a:rPr b="1" lang="ru-RU" sz="3600" spc="-1" strike="noStrike">
                <a:solidFill>
                  <a:srgbClr val="ff6600"/>
                </a:solidFill>
                <a:latin typeface="Tahoma"/>
              </a:rPr>
              <a:t>Голос  густой,</a:t>
            </a:r>
            <a:br>
              <a:rPr sz="3600"/>
            </a:br>
            <a:r>
              <a:rPr b="1" lang="ru-RU" sz="3600" spc="-1" strike="noStrike">
                <a:solidFill>
                  <a:srgbClr val="ff6600"/>
                </a:solidFill>
                <a:latin typeface="Tahoma"/>
              </a:rPr>
              <a:t>Дробь  отбивает,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Tahoma"/>
              </a:rPr>
              <a:t>Ребят   созывает.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Прямоугольник 4"/>
          <p:cNvGrpSpPr/>
          <p:nvPr/>
        </p:nvGrpSpPr>
        <p:grpSpPr>
          <a:xfrm>
            <a:off x="1584360" y="1450800"/>
            <a:ext cx="6267240" cy="3956400"/>
            <a:chOff x="1584360" y="1450800"/>
            <a:chExt cx="6267240" cy="3956400"/>
          </a:xfrm>
        </p:grpSpPr>
        <p:pic>
          <p:nvPicPr>
            <p:cNvPr id="59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1584360" y="1450800"/>
              <a:ext cx="6267240" cy="395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604880" y="1467000"/>
              <a:ext cx="6229440" cy="39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Rectangle 7"/>
          <p:cNvSpPr/>
          <p:nvPr/>
        </p:nvSpPr>
        <p:spPr>
          <a:xfrm>
            <a:off x="1835280" y="1702440"/>
            <a:ext cx="5649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В самый сказочный момент  вступит этот инструм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Но совсем не каждый знает, что в оркестре он игра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Тихо, нежно зазвенит, будто всё посеребр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А затем умолкнет скоро по сигналу дирижё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Знает это каждый школьник.  Что такое...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Прямоугольник 4"/>
          <p:cNvGrpSpPr/>
          <p:nvPr/>
        </p:nvGrpSpPr>
        <p:grpSpPr>
          <a:xfrm>
            <a:off x="1517760" y="1663560"/>
            <a:ext cx="6333840" cy="3749760"/>
            <a:chOff x="1517760" y="1663560"/>
            <a:chExt cx="6333840" cy="3749760"/>
          </a:xfrm>
        </p:grpSpPr>
        <p:pic>
          <p:nvPicPr>
            <p:cNvPr id="65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1517760" y="1663560"/>
              <a:ext cx="6333840" cy="374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1535040" y="1679400"/>
              <a:ext cx="6299280" cy="371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Rectangle 7"/>
          <p:cNvSpPr/>
          <p:nvPr/>
        </p:nvSpPr>
        <p:spPr>
          <a:xfrm>
            <a:off x="1476360" y="1809000"/>
            <a:ext cx="650556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У   него  есть   язык,</a:t>
            </a:r>
            <a:br>
              <a:rPr sz="3200"/>
            </a:b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Он   болтать   им   привык,</a:t>
            </a:r>
            <a:br>
              <a:rPr sz="3200"/>
            </a:b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Но,  когда   болтает   он,</a:t>
            </a:r>
            <a:br>
              <a:rPr sz="3200"/>
            </a:b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Слышно  не   слова,   а   звон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Прямоугольник 4"/>
          <p:cNvGrpSpPr/>
          <p:nvPr/>
        </p:nvGrpSpPr>
        <p:grpSpPr>
          <a:xfrm>
            <a:off x="1584360" y="1731960"/>
            <a:ext cx="6267240" cy="3681360"/>
            <a:chOff x="1584360" y="1731960"/>
            <a:chExt cx="6267240" cy="3681360"/>
          </a:xfrm>
        </p:grpSpPr>
        <p:pic>
          <p:nvPicPr>
            <p:cNvPr id="71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1584360" y="1731960"/>
              <a:ext cx="6267240" cy="36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1604880" y="1751040"/>
              <a:ext cx="6229440" cy="36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Rectangle 7"/>
          <p:cNvSpPr/>
          <p:nvPr/>
        </p:nvSpPr>
        <p:spPr>
          <a:xfrm>
            <a:off x="1505880" y="2421360"/>
            <a:ext cx="642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Tahoma"/>
              </a:rPr>
              <a:t>Все  затихли,  замолчали,</a:t>
            </a:r>
            <a:br>
              <a:rPr sz="3600"/>
            </a:br>
            <a:r>
              <a:rPr b="1" lang="ru-RU" sz="3600" spc="-1" strike="noStrike">
                <a:solidFill>
                  <a:srgbClr val="ff6600"/>
                </a:solidFill>
                <a:latin typeface="Tahoma"/>
              </a:rPr>
              <a:t>Вдруг …….. зазвучали. </a:t>
            </a:r>
            <a:br>
              <a:rPr sz="3600"/>
            </a:br>
            <a:r>
              <a:rPr b="1" lang="ru-RU" sz="3600" spc="-1" strike="noStrike">
                <a:solidFill>
                  <a:srgbClr val="ff6600"/>
                </a:solidFill>
                <a:latin typeface="Tahoma"/>
              </a:rPr>
              <a:t>Медные,  тонкие,</a:t>
            </a:r>
            <a:br>
              <a:rPr sz="3600"/>
            </a:br>
            <a:r>
              <a:rPr b="1" lang="ru-RU" sz="3600" spc="-1" strike="noStrike">
                <a:solidFill>
                  <a:srgbClr val="ff6600"/>
                </a:solidFill>
                <a:latin typeface="Tahoma"/>
              </a:rPr>
              <a:t>Звонкие,  звонк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" name="Прямоугольник 4"/>
          <p:cNvGrpSpPr/>
          <p:nvPr/>
        </p:nvGrpSpPr>
        <p:grpSpPr>
          <a:xfrm>
            <a:off x="1584360" y="1731960"/>
            <a:ext cx="6267240" cy="3681360"/>
            <a:chOff x="1584360" y="1731960"/>
            <a:chExt cx="6267240" cy="3681360"/>
          </a:xfrm>
        </p:grpSpPr>
        <p:pic>
          <p:nvPicPr>
            <p:cNvPr id="77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1584360" y="1731960"/>
              <a:ext cx="6267240" cy="36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1604880" y="1751040"/>
              <a:ext cx="6229440" cy="36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7"/>
          <p:cNvSpPr/>
          <p:nvPr/>
        </p:nvSpPr>
        <p:spPr>
          <a:xfrm>
            <a:off x="1258920" y="2432520"/>
            <a:ext cx="64087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    </a:t>
            </a:r>
            <a:r>
              <a:rPr b="1" lang="ru-RU" sz="3600" spc="-1" strike="noStrike">
                <a:solidFill>
                  <a:srgbClr val="ff6600"/>
                </a:solidFill>
                <a:latin typeface="Tahoma"/>
              </a:rPr>
              <a:t>То  толстеет, то  худеет,</a:t>
            </a:r>
            <a:br>
              <a:rPr sz="3600"/>
            </a:br>
            <a:r>
              <a:rPr b="1" lang="ru-RU" sz="3600" spc="-1" strike="noStrike">
                <a:solidFill>
                  <a:srgbClr val="ff6600"/>
                </a:solidFill>
                <a:latin typeface="Tahoma"/>
              </a:rPr>
              <a:t>    На  весь   дом   голосит.</a:t>
            </a: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     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Прямоугольник 4"/>
          <p:cNvGrpSpPr/>
          <p:nvPr/>
        </p:nvGrpSpPr>
        <p:grpSpPr>
          <a:xfrm>
            <a:off x="1584360" y="1731960"/>
            <a:ext cx="6267240" cy="3681360"/>
            <a:chOff x="1584360" y="1731960"/>
            <a:chExt cx="6267240" cy="3681360"/>
          </a:xfrm>
        </p:grpSpPr>
        <p:pic>
          <p:nvPicPr>
            <p:cNvPr id="83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1584360" y="1731960"/>
              <a:ext cx="6267240" cy="36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604880" y="1751040"/>
              <a:ext cx="6229440" cy="36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Rectangle 7"/>
          <p:cNvSpPr/>
          <p:nvPr/>
        </p:nvSpPr>
        <p:spPr>
          <a:xfrm>
            <a:off x="1547640" y="2780280"/>
            <a:ext cx="65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Молодёжь  из  разных  стр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Лихо  пляшет  под  . . . . . 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Прямоугольник 4"/>
          <p:cNvGrpSpPr/>
          <p:nvPr/>
        </p:nvGrpSpPr>
        <p:grpSpPr>
          <a:xfrm>
            <a:off x="1584360" y="1731960"/>
            <a:ext cx="6267240" cy="3681360"/>
            <a:chOff x="1584360" y="1731960"/>
            <a:chExt cx="6267240" cy="3681360"/>
          </a:xfrm>
        </p:grpSpPr>
        <p:pic>
          <p:nvPicPr>
            <p:cNvPr id="89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1584360" y="1731960"/>
              <a:ext cx="6267240" cy="36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604880" y="1751040"/>
              <a:ext cx="6229440" cy="36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1685520" y="1845360"/>
            <a:ext cx="60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Очень  весело  поёт,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Если  дуете  в  неё.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Вы  все  на  ней  играете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И  сразу  отгадаете.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Ду-ду, ду-ду-ду, да-да-да, да-да!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Вот  так  поёт  она  всегда.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Не  палочка,  не  трубочка,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А  что  же  это? . . .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мпьютер</dc:creator>
  <dc:description/>
  <dc:language>en-US</dc:language>
  <cp:lastModifiedBy>Admin</cp:lastModifiedBy>
  <dcterms:modified xsi:type="dcterms:W3CDTF">2019-12-28T06:13:38Z</dcterms:modified>
  <cp:revision>52</cp:revision>
  <dc:subject/>
  <dc:title>Слайд 1</dc:title>
</cp:coreProperties>
</file>