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67C-7927-46AB-9FF4-22840D6F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A45-EA2A-4A68-8AE8-1C7744B5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B13-7C25-4574-A9A7-DB62B80D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790-2D4B-418E-A95D-90255A2B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A60-8AD0-4B1C-8DFC-5C98476D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AC4-E0FA-4A9B-BADF-AA41157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70B-9BF9-4646-BC52-9B1E95B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104-FDF5-4D68-8B8A-06EEB85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DAA-EE8C-4ABF-BD57-54CBA83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B33-06E3-4F9B-8E23-F1B9C0D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535-B14B-4D14-AB8B-A2011E0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986-E72D-44CB-AFB4-C81C09E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0D4-B45B-4330-B63E-439B7E016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Загадк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«Музыкальные инструменты»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по музыке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40000" y="4724280"/>
            <a:ext cx="46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Составила учитель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ГБОУ СОШ №2«Образовательный центр» с.Кинель-Черкассы Самарской области Постникова Татьяна Ром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10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7"/>
          <p:cNvSpPr/>
          <p:nvPr/>
        </p:nvSpPr>
        <p:spPr>
          <a:xfrm>
            <a:off x="1774440" y="1485360"/>
            <a:ext cx="56030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  руки  ты  её  возьмёш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То  растянешь,  то  сожмёшь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вонкая,  нарядная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усская двухрядная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аиграет,  только тронь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Как  зовут  её? . . . . . . . 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ада  вам  она  играт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Приглашает  попляс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Гарм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187280" y="2781360"/>
            <a:ext cx="69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Молодцы ребятки! Отгадали все загадки! А теперь не зевай, на инструментах поигр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http://player.myshared.ru/4/276377/slides/slide_10.jpg"/>
          <p:cNvPicPr/>
          <p:nvPr/>
        </p:nvPicPr>
        <p:blipFill>
          <a:blip r:embed="rId1"/>
          <a:srcRect l="709" t="-2357" r="-4248" b="0"/>
          <a:stretch/>
        </p:blipFill>
        <p:spPr>
          <a:xfrm>
            <a:off x="900000" y="333360"/>
            <a:ext cx="7632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Прямоугольник 4"/>
          <p:cNvGrpSpPr/>
          <p:nvPr/>
        </p:nvGrpSpPr>
        <p:grpSpPr>
          <a:xfrm>
            <a:off x="1579680" y="1725480"/>
            <a:ext cx="6278400" cy="3621240"/>
            <a:chOff x="1579680" y="1725480"/>
            <a:chExt cx="6278400" cy="3621240"/>
          </a:xfrm>
        </p:grpSpPr>
        <p:pic>
          <p:nvPicPr>
            <p:cNvPr id="4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604880" y="1749600"/>
              <a:ext cx="6229440" cy="35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2"/>
          <p:cNvSpPr/>
          <p:nvPr/>
        </p:nvSpPr>
        <p:spPr>
          <a:xfrm>
            <a:off x="1653480" y="1414080"/>
            <a:ext cx="6238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Ой,  звенит  она,  звенит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сех  игрою веселит!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А  всего-то  три  струны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Ей  для  музыки  нужны.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Кто  такая?  Отгадай-ка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Это  наша . . . . . 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859280" y="53751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Балал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5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1815120" y="1715760"/>
            <a:ext cx="463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ом   пустой,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Голос  густой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робь  отбивает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Ребят   созывает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508720" y="551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Прямоугольник 4"/>
          <p:cNvGrpSpPr/>
          <p:nvPr/>
        </p:nvGrpSpPr>
        <p:grpSpPr>
          <a:xfrm>
            <a:off x="1579680" y="1444680"/>
            <a:ext cx="6278400" cy="3968640"/>
            <a:chOff x="1579680" y="1444680"/>
            <a:chExt cx="6278400" cy="3968640"/>
          </a:xfrm>
        </p:grpSpPr>
        <p:pic>
          <p:nvPicPr>
            <p:cNvPr id="6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444680"/>
              <a:ext cx="6278400" cy="39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04880" y="1467000"/>
              <a:ext cx="622944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7"/>
          <p:cNvSpPr/>
          <p:nvPr/>
        </p:nvSpPr>
        <p:spPr>
          <a:xfrm>
            <a:off x="1835280" y="1702440"/>
            <a:ext cx="564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амый сказочный момент  вступит этот инстру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о совсем не каждый знает, что в оркестре он игр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ихо, нежно зазвенит, будто всё посереб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 затем умолкнет скоро по сигналу дирижё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ет это каждый школьник.  Что такое..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00720" y="551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Прямоугольник 4"/>
          <p:cNvGrpSpPr/>
          <p:nvPr/>
        </p:nvGrpSpPr>
        <p:grpSpPr>
          <a:xfrm>
            <a:off x="1511280" y="1657440"/>
            <a:ext cx="6346800" cy="3762360"/>
            <a:chOff x="1511280" y="1657440"/>
            <a:chExt cx="6346800" cy="3762360"/>
          </a:xfrm>
        </p:grpSpPr>
        <p:pic>
          <p:nvPicPr>
            <p:cNvPr id="6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11280" y="1657440"/>
              <a:ext cx="634680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535040" y="1679400"/>
              <a:ext cx="629928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1476360" y="1809000"/>
            <a:ext cx="65055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У   него  есть   яз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Он   болтать   им   прив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Но,  когда   болтает   он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Слышно  не   слова,   а   звон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284720" y="544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Колоколь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7"/>
          <p:cNvSpPr/>
          <p:nvPr/>
        </p:nvSpPr>
        <p:spPr>
          <a:xfrm>
            <a:off x="1505880" y="2421360"/>
            <a:ext cx="64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се  затихли,  замолчали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друг …….. зазвучали.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Медные,  тонкие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Звонкие,  звон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Тар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8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7"/>
          <p:cNvSpPr/>
          <p:nvPr/>
        </p:nvSpPr>
        <p:spPr>
          <a:xfrm>
            <a:off x="1258920" y="243252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То  толстеет, то  худеет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    На  весь   дом   голосит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Гарм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8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1547640" y="2780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Молодёжь  из  разных 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Лихо  пляшет  под  . . . . .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Бая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Прямоугольник 4"/>
          <p:cNvGrpSpPr/>
          <p:nvPr/>
        </p:nvGrpSpPr>
        <p:grpSpPr>
          <a:xfrm>
            <a:off x="1579680" y="1725480"/>
            <a:ext cx="6278400" cy="3694320"/>
            <a:chOff x="1579680" y="1725480"/>
            <a:chExt cx="6278400" cy="3694320"/>
          </a:xfrm>
        </p:grpSpPr>
        <p:pic>
          <p:nvPicPr>
            <p:cNvPr id="9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79680" y="1725480"/>
              <a:ext cx="627840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7"/>
          <p:cNvSpPr/>
          <p:nvPr/>
        </p:nvSpPr>
        <p:spPr>
          <a:xfrm>
            <a:off x="1685520" y="1845360"/>
            <a:ext cx="60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Очень  весело  поёт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Если  дуете  в  неё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ы  все  на  ней  играете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И  сразу  отгадаете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Ду-ду, ду-ду-ду, да-да-да, да-да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от  так  поёт  она  всегда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Не  палочка,  не  трубочка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А  что  же  это? .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508720" y="54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ahoma"/>
              </a:rPr>
              <a:t>Дуд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7-11-26T19:09:09Z</dcterms:modified>
  <cp:revision>54</cp:revision>
  <dc:subject/>
  <dc:title>Слайд 1</dc:title>
</cp:coreProperties>
</file>