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4BB-CD7D-43A8-A4A8-A939C347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845-1244-4800-8C3E-16568A49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19A-0D7F-46F5-AB13-FCFA7597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8DA-B8E3-4A1D-9EC9-4ED851D0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E2AC-A3A0-4D69-84CE-B0F67FC4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649C-F559-4B38-84A6-B8429EC0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2098-56B8-40AB-8E2A-0ACF16AF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62A9-8E5E-4C2F-A8EF-A0107F93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4BE6-BE39-4A68-B05D-3E6E51D0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530C-1364-4E57-9E40-752165FB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B567-EDC4-41E8-80F0-11546A2B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F22-01CF-4FE2-8F2C-C6CF9AC6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292F-4F29-4C1A-B4C1-332372C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098E-6A80-4EA8-99CA-83EDE3D1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45B2-47EB-499C-A0E5-F2E87533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4E52-5741-49A9-954C-D5FB326B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CA88-16F0-4AAE-A779-95D8D9A2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C9BF-1B12-41F9-9696-DDD439B9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13551-A039-4F07-8ACD-5034A81F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EB78-0FF2-4DCB-89EC-7D8D4CEC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B68B8-1463-48B5-89E7-CCF1BCE8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8869-525D-4B50-B456-E394B50A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7FE-6A9E-488F-8195-97E199E1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4BA8-7672-4603-9DA8-0149ADDC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E16E-35FD-4C0C-8F1C-3873DCD5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1C0D-846E-4FD0-9ADC-F3770F9D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64606-8E1C-428F-85EF-6D73BC9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E455A-CCBF-40C9-8AC6-1DA37843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B18F-C009-4FD5-B21E-F0BE24D1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7A0B-B300-4A5D-8636-F898267D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2AD01-EF78-4CE2-B68E-F797048A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4A0C-2083-48B4-9073-09BFB1D5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A3E8-39AD-4375-8A6B-8BED7E32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211-6085-4866-BCD2-B2ACC5C7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943D8-D599-49B0-96F6-59CD1264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B1C87-7493-4529-BE7A-E5C735E5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E5C6-7147-4241-A951-F74A4486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5E8DE-D941-4A94-A2CB-292E6A8B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5EC54-B3FA-43EB-92B7-0817975E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C3A33-CC4B-4F4E-9460-1F55322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69BE-395A-473C-93F0-208CE36C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3B21-2180-4ABC-B5F9-490AC1AD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3E2D8-7C74-49B7-8759-4D690A25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45D-9032-46FA-B594-B836EB7F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E12-E286-4753-8459-0EF0258D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ADE-6064-4439-A881-19D3C1B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F56-CE26-4DFB-9A8D-DFEB7AD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32B-1609-4AED-AF3D-DD1F2D61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018B-FB4C-4D09-9A89-BFE75CAE8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D3A8-4F60-4973-94CD-A366697B9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AF3B-DEB1-4BC7-9FC1-A564669C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1EBA-0E58-4262-91AF-15527E6CA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zelok.in/?Istoriya_vyazaniya_kryuchkom" TargetMode="External"/><Relationship Id="rId2" Type="http://schemas.openxmlformats.org/officeDocument/2006/relationships/hyperlink" Target="http://www.krestiki.info/" TargetMode="External"/><Relationship Id="rId3" Type="http://schemas.openxmlformats.org/officeDocument/2006/relationships/hyperlink" Target="http://moikompas.ru/compas/crochet" TargetMode="External"/><Relationship Id="rId4" Type="http://schemas.openxmlformats.org/officeDocument/2006/relationships/hyperlink" Target="http://www.knitting.needle-work.ru/h_1.html" TargetMode="External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an-de-lion.com/wp-content/gallery/crochet-school/light_hook.jpg" TargetMode="External"/><Relationship Id="rId2" Type="http://schemas.openxmlformats.org/officeDocument/2006/relationships/hyperlink" Target="http://moikompas.ru/tags/vyazanie" TargetMode="External"/><Relationship Id="rId3" Type="http://schemas.openxmlformats.org/officeDocument/2006/relationships/hyperlink" Target="http://moikompas.ru/tags/vyazanie" TargetMode="External"/><Relationship Id="rId4" Type="http://schemas.openxmlformats.org/officeDocument/2006/relationships/hyperlink" Target="http://dan-de-lion.com/handicraft-school/get-aquainted-crochet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439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386b"/>
                </a:solidFill>
                <a:latin typeface="Arial"/>
              </a:rPr>
              <a:t>Вязание крючком.</a:t>
            </a:r>
            <a:br>
              <a:rPr sz="3600"/>
            </a:br>
            <a:r>
              <a:rPr b="1" lang="ru-RU" sz="3600" spc="-1" strike="noStrike">
                <a:solidFill>
                  <a:srgbClr val="2e386b"/>
                </a:solidFill>
                <a:latin typeface="Arial"/>
              </a:rPr>
              <a:t>Инструменты и материа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563640" y="5444640"/>
            <a:ext cx="532908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023"/>
                </a:solidFill>
                <a:latin typeface="Arial"/>
              </a:rPr>
              <a:t>Автор: учитель техн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023"/>
                </a:solidFill>
                <a:latin typeface="Arial"/>
              </a:rPr>
              <a:t>Татаринцева Наталья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023"/>
                </a:solidFill>
                <a:latin typeface="Arial"/>
              </a:rPr>
              <a:t>ГБОУ СОШ №2 «ОЦ» с. Кинель-Черк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6" descr="95268508.jpg"/>
          <p:cNvPicPr/>
          <p:nvPr/>
        </p:nvPicPr>
        <p:blipFill>
          <a:blip r:embed="rId1"/>
          <a:stretch/>
        </p:blipFill>
        <p:spPr>
          <a:xfrm>
            <a:off x="2050920" y="1873080"/>
            <a:ext cx="4865760" cy="319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14200"/>
            <a:ext cx="82594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86b"/>
                </a:solidFill>
                <a:latin typeface="Arial"/>
              </a:rPr>
              <a:t>Какие нитки используют для вязания крюч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928680" y="1643040"/>
            <a:ext cx="4643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ы человек не создал нитки, то не появились бы в его жизни крючки, спицы. А ведь разнообразие ниток, из которых вяжут,- огромно. Вязать можно из любых ниток: шерстяных и шелковых, хлопчатобумажных и синтетических, льняных и искусстве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образие ниток и пряжи велико, но важно правильно определить, что лучше всего подходит для вашего изделия. Так, например, салфетки, скатерти, шали вяжут из таких нитей, как ирис, «снежинка». А шапки, береты вяжут из шерстяной, синтетической, а летние – из хлопчатобумажной пря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в нити для вязания, нужно правильно подобрать к ним крюч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3" descr="yarn_2.jpg"/>
          <p:cNvPicPr/>
          <p:nvPr/>
        </p:nvPicPr>
        <p:blipFill>
          <a:blip r:embed="rId1"/>
          <a:stretch/>
        </p:blipFill>
        <p:spPr>
          <a:xfrm>
            <a:off x="395280" y="1700280"/>
            <a:ext cx="340344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26360" cy="551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86b"/>
                </a:solidFill>
                <a:latin typeface="Arial"/>
              </a:rPr>
              <a:t>Правила подбора  крючка в соответствии с выбранной пряжей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ым делом посмотрите на этикетку от пряж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На этикетках некоторые производители пряжи указывают рекомендуемый номер крючка. Для начинающих вязальщиц это удобный ориентир. Как правило, под изображением крючка стоит цифра, указывающая номер крючк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Крючки диаметром 2—6 мм употребляют для вязания изделий из толстой шерстяной или синтетической пряжи. Для ириса, мулине берут более тонкий крючок (0,5—2,5 мм в диаметре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ьное со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толщина крючка должна быть почти в два раза больше толщины нитки. Чем толще пряжа, тем толще должен быть крючо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760" y="357120"/>
            <a:ext cx="84024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e386b"/>
                </a:solidFill>
                <a:latin typeface="Arial"/>
              </a:rPr>
              <a:t>Положение крючка в руке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5760" y="1000080"/>
            <a:ext cx="83311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е важное в вязании - это научиться правильно держать инструмен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2 способа положения крючка в р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3" descr="crl1-01.jpg"/>
          <p:cNvPicPr/>
          <p:nvPr/>
        </p:nvPicPr>
        <p:blipFill>
          <a:blip r:embed="rId1"/>
          <a:stretch/>
        </p:blipFill>
        <p:spPr>
          <a:xfrm>
            <a:off x="2643120" y="2357280"/>
            <a:ext cx="3657600" cy="386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49636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язании крючком сначала вывязывается начальная петля. Для этого на расстоянии 15 см от конца нитки нужно сделать петлю.  Ввести в нее крючок, захватив рабочую нить и протянуть ее через петлю (рис.1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После этого нужно потянуть за оба конца нитки, чтобы затянуть петлю на крючке (рис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67984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Заголовок 1"/>
          <p:cNvSpPr/>
          <p:nvPr/>
        </p:nvSpPr>
        <p:spPr>
          <a:xfrm>
            <a:off x="395280" y="0"/>
            <a:ext cx="8402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e386b"/>
                </a:solidFill>
                <a:latin typeface="Arial"/>
              </a:rPr>
              <a:t>Образование начальной петл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1229351986_uroki_kr_2"/>
          <p:cNvPicPr/>
          <p:nvPr/>
        </p:nvPicPr>
        <p:blipFill>
          <a:blip r:embed="rId1"/>
          <a:stretch/>
        </p:blipFill>
        <p:spPr>
          <a:xfrm>
            <a:off x="755640" y="3357720"/>
            <a:ext cx="7763040" cy="310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112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e386b"/>
                </a:solidFill>
                <a:latin typeface="Arial"/>
              </a:rPr>
              <a:t>Воздушная петл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000240" y="856800"/>
            <a:ext cx="61437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боте крючком воздушные пет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в.п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уют основу для вязания первого ряда. Они также используются в узорах, ажурном вязании или для поворота, то есть перехода при вязании от одного ряда к другому.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хника вязания воздушной петл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делайте первую петлю. Проденьте крючок в получившуюся петлю справа налево, захватите рабочую нить. Протяните ее в узел. На крючке получилась новая петля. Потяните за рабочую нить и за конец нити, затягивая узел у основания петл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ержите крючок в правой руке, рабочую нить - в левой руке. Подцепите крючком рабочую нить в направлении на себя и протяните ее через петлю на крючке (как на рисунке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вторяйте, пока цепочка из воздушных петель не достигнет необходимой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3" descr="crochetchain.jpg"/>
          <p:cNvPicPr/>
          <p:nvPr/>
        </p:nvPicPr>
        <p:blipFill>
          <a:blip r:embed="rId1"/>
          <a:stretch/>
        </p:blipFill>
        <p:spPr>
          <a:xfrm>
            <a:off x="142920" y="1428840"/>
            <a:ext cx="2857320" cy="337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0276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86b"/>
                </a:solidFill>
                <a:latin typeface="Arial"/>
              </a:rPr>
              <a:t>Практическая работа</a:t>
            </a:r>
            <a:br>
              <a:rPr sz="3200"/>
            </a:br>
            <a:r>
              <a:rPr b="1" lang="ru-RU" sz="3200" spc="-1" strike="noStrike">
                <a:solidFill>
                  <a:srgbClr val="2e386b"/>
                </a:solidFill>
                <a:latin typeface="Arial"/>
              </a:rPr>
              <a:t>«Начальная петля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1397231092_32"/>
          <p:cNvPicPr/>
          <p:nvPr/>
        </p:nvPicPr>
        <p:blipFill>
          <a:blip r:embed="rId1"/>
          <a:stretch/>
        </p:blipFill>
        <p:spPr>
          <a:xfrm>
            <a:off x="1476360" y="1484280"/>
            <a:ext cx="6408720" cy="505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40276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e386b"/>
                </a:solidFill>
                <a:latin typeface="Arial"/>
              </a:rPr>
              <a:t>Практическая работ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e386b"/>
                </a:solidFill>
                <a:latin typeface="Arial"/>
              </a:rPr>
              <a:t>«Цепочка из воздушных петель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knitting_crocheting_09"/>
          <p:cNvPicPr/>
          <p:nvPr/>
        </p:nvPicPr>
        <p:blipFill>
          <a:blip r:embed="rId1"/>
          <a:stretch/>
        </p:blipFill>
        <p:spPr>
          <a:xfrm>
            <a:off x="179280" y="3284640"/>
            <a:ext cx="8774280" cy="22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428760"/>
            <a:ext cx="81882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86b"/>
                </a:solidFill>
                <a:latin typeface="Arial"/>
              </a:rPr>
              <a:t>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5760" y="1785960"/>
            <a:ext cx="804528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e6b53"/>
                </a:solidFill>
                <a:uFillTx/>
                <a:latin typeface="Arial"/>
                <a:hlinkClick r:id="rId1"/>
              </a:rPr>
              <a:t>http://www.uzelok.in/?Istoriya_vyazaniya_kryuch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e6b53"/>
                </a:solidFill>
                <a:uFillTx/>
                <a:latin typeface="Arial"/>
                <a:hlinkClick r:id="rId2"/>
              </a:rPr>
              <a:t>http://www.krestiki.info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e6b53"/>
                </a:solidFill>
                <a:uFillTx/>
                <a:latin typeface="Arial"/>
                <a:hlinkClick r:id="rId3"/>
              </a:rPr>
              <a:t>http://moikompas.ru/compas/croch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e6b53"/>
                </a:solidFill>
                <a:uFillTx/>
                <a:latin typeface="Arial"/>
                <a:hlinkClick r:id="rId4"/>
              </a:rPr>
              <a:t>http://www.knitting.needle-work.ru/h_1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02016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386b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7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учащихся с историей вязания, основными материалами и инструмент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овать формированию добросовестного отношения к тру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внимание, аккура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598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386b"/>
                </a:solidFill>
                <a:latin typeface="Arial"/>
              </a:rPr>
              <a:t>История вяз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140000" y="1052640"/>
            <a:ext cx="4857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авна, стараясь украсить свой дом, разнообразить быт, люди стремились использовать самые простые материалы для сочетания несложных форм и средств с неприхотливыми узорами, достигнув при этом высокого мастерства. Ручное вязание изначально появилось как простая утилитарная необходимость, в дальнейшем превратилось в настоящее искус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и когда придумал первую петельку, никто не знает, но уже давно известно, что родилась эта чудо-петелька задолго до нашей эры. В Египте в одной из гробниц найдена детская вязаная туфелька, археологи установили, что ей более четырех тысяч лет. А уже в начале нашей эры техника и принципы вязания находились на очень высоком уровн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5" descr="AG4DT3.jpg"/>
          <p:cNvPicPr/>
          <p:nvPr/>
        </p:nvPicPr>
        <p:blipFill>
          <a:blip r:embed="rId1"/>
          <a:stretch/>
        </p:blipFill>
        <p:spPr>
          <a:xfrm>
            <a:off x="285840" y="1571760"/>
            <a:ext cx="380988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24360" cy="489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, что вязание сначала было мужским ремеслом, и мужчины боролись с женской конкуренцией специальными договорам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 1612 году Пражские чулочники заявили, что под страхом денежного взыскания не примут на работу ни одной женщины! Лишь позднее, когда вязание  широко распространилось, им стали заниматься прежде всего женщины. И все равно мужчины не потеряли интереса к вязанию.       В 1946 году национальный американский конкурс по вязанию крючком выиграл муж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adf7dbb711d7"/>
          <p:cNvPicPr/>
          <p:nvPr/>
        </p:nvPicPr>
        <p:blipFill>
          <a:blip r:embed="rId1"/>
          <a:stretch/>
        </p:blipFill>
        <p:spPr>
          <a:xfrm>
            <a:off x="179280" y="620640"/>
            <a:ext cx="4675320" cy="525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86b"/>
                </a:solidFill>
                <a:latin typeface="Arial"/>
              </a:rPr>
              <a:t>Что можно связать крюч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Копия 100_0746"/>
          <p:cNvPicPr/>
          <p:nvPr/>
        </p:nvPicPr>
        <p:blipFill>
          <a:blip r:embed="rId1"/>
          <a:stretch/>
        </p:blipFill>
        <p:spPr>
          <a:xfrm>
            <a:off x="357120" y="1428840"/>
            <a:ext cx="3722760" cy="4708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100_0749"/>
          <p:cNvPicPr/>
          <p:nvPr/>
        </p:nvPicPr>
        <p:blipFill>
          <a:blip r:embed="rId2"/>
          <a:stretch/>
        </p:blipFill>
        <p:spPr>
          <a:xfrm>
            <a:off x="4716360" y="1357200"/>
            <a:ext cx="3311640" cy="2444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000_0002"/>
          <p:cNvPicPr/>
          <p:nvPr/>
        </p:nvPicPr>
        <p:blipFill>
          <a:blip r:embed="rId3"/>
          <a:stretch/>
        </p:blipFill>
        <p:spPr>
          <a:xfrm>
            <a:off x="4714920" y="3929040"/>
            <a:ext cx="3319560" cy="2489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78"/>
          <p:cNvPicPr/>
          <p:nvPr/>
        </p:nvPicPr>
        <p:blipFill>
          <a:blip r:embed="rId1"/>
          <a:stretch/>
        </p:blipFill>
        <p:spPr>
          <a:xfrm>
            <a:off x="500040" y="428760"/>
            <a:ext cx="3747960" cy="2811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100_0273"/>
          <p:cNvPicPr/>
          <p:nvPr/>
        </p:nvPicPr>
        <p:blipFill>
          <a:blip r:embed="rId2"/>
          <a:stretch/>
        </p:blipFill>
        <p:spPr>
          <a:xfrm>
            <a:off x="4714920" y="42876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81"/>
          <p:cNvPicPr/>
          <p:nvPr/>
        </p:nvPicPr>
        <p:blipFill>
          <a:blip r:embed="rId3"/>
          <a:stretch/>
        </p:blipFill>
        <p:spPr>
          <a:xfrm>
            <a:off x="142920" y="3500280"/>
            <a:ext cx="4321080" cy="324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Копия 35"/>
          <p:cNvPicPr/>
          <p:nvPr/>
        </p:nvPicPr>
        <p:blipFill>
          <a:blip r:embed="rId4"/>
          <a:stretch/>
        </p:blipFill>
        <p:spPr>
          <a:xfrm>
            <a:off x="4500720" y="3357720"/>
            <a:ext cx="4440240" cy="333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" descr="100_0975.JPG"/>
          <p:cNvPicPr/>
          <p:nvPr/>
        </p:nvPicPr>
        <p:blipFill>
          <a:blip r:embed="rId1"/>
          <a:stretch/>
        </p:blipFill>
        <p:spPr>
          <a:xfrm>
            <a:off x="285840" y="357120"/>
            <a:ext cx="4213080" cy="30006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" descr="100_1395.JPG"/>
          <p:cNvPicPr/>
          <p:nvPr/>
        </p:nvPicPr>
        <p:blipFill>
          <a:blip r:embed="rId2"/>
          <a:stretch/>
        </p:blipFill>
        <p:spPr>
          <a:xfrm>
            <a:off x="4714920" y="357120"/>
            <a:ext cx="4143240" cy="31082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" descr="100_1584.JPG"/>
          <p:cNvPicPr/>
          <p:nvPr/>
        </p:nvPicPr>
        <p:blipFill>
          <a:blip r:embed="rId3"/>
          <a:stretch/>
        </p:blipFill>
        <p:spPr>
          <a:xfrm>
            <a:off x="57168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100_1596.JPG"/>
          <p:cNvPicPr/>
          <p:nvPr/>
        </p:nvPicPr>
        <p:blipFill>
          <a:blip r:embed="rId4"/>
          <a:stretch/>
        </p:blipFill>
        <p:spPr>
          <a:xfrm>
            <a:off x="5143680" y="3786120"/>
            <a:ext cx="3143160" cy="235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7404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386b"/>
                </a:solidFill>
                <a:latin typeface="Arial"/>
              </a:rPr>
              <a:t>Материалы и инстр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564000" y="1557360"/>
            <a:ext cx="52149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бывают крючки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развития крючка, как инструмента, не менее интересна, чем история самого вязания крючк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Изначально вязальные крючки не были крючками в прямом смысле слова — это были ровные палочки. Позже форма, размер и материал крюч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ялась вместе с тем как менялось его применение, появлялись нов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ки и новые, более тонкие виды пряж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крючки изготовлялись из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лоновья кость, бивни, рог крупного рогатого скота)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р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зже их стали изготавливать из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 и брон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 началу прошлого века – из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гда же в моду вошли и крючки с декоративным украшением на них (резьба на деревянных ручках, инкрустация 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используются крючки из различных материалов: металлически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стмассовые, деревянные, но в отличи от предыдущих местеров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производители не менее радуют нас своими новинками, которые облегчают нам работу, такими как, например, </a:t>
            </a:r>
            <a:r>
              <a:rPr b="0" lang="ru-RU" sz="2400" spc="-1" strike="noStrike" u="sng">
                <a:solidFill>
                  <a:srgbClr val="2e6b53"/>
                </a:solidFill>
                <a:uFillTx/>
                <a:latin typeface="Arial"/>
                <a:hlinkClick r:id="rId1"/>
              </a:rPr>
              <a:t>крючки с подсветк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крючок вам нужно взять именно для той пряжи, из которой вы будете вязать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т существует несколько прави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м делом посмотрите на этикет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 этикетках некоторые производители пряжи указывают рекомендуемый номер крючка. Для начинающих вязальщиц это удобный ориентир. Как правило, под изображением крючка стоит цифра, указывающая номер крючк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рючки диаметром 2—6 мм употребляют для вязания изделий и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ой шерстяной или синтетической пряжи. Для ириса, мулине, гарус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ут более тонкий крючок (0,5—2,5 мм в диаметре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ое соотно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олщина крючка должна быть поч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а раза больше толщины нитки. Чем толще пряжа, тем толще должен быть крючок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Если для тонких ниток взять толстый крючок, вязанное полотно будет ажурное, с большими просветами. Если же взять толстые нитки и тонкий крючок, то получится плотное </a:t>
            </a:r>
            <a:r>
              <a:rPr b="0" lang="ru-RU" sz="2400" spc="-1" strike="noStrike" u="sng">
                <a:solidFill>
                  <a:srgbClr val="2e6b53"/>
                </a:solidFill>
                <a:uFillTx/>
                <a:latin typeface="Arial"/>
                <a:hlinkClick r:id="rId2"/>
              </a:rPr>
              <a:t>вяз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Но помните, что тонким крючком вязать толстую пряжу неудобно, он будет расщеплять нить. Также и толстым крючком вязать тонкую пряжу проблематично - </a:t>
            </a:r>
            <a:r>
              <a:rPr b="0" lang="ru-RU" sz="2400" spc="-1" strike="noStrike" u="sng">
                <a:solidFill>
                  <a:srgbClr val="2e6b53"/>
                </a:solidFill>
                <a:uFillTx/>
                <a:latin typeface="Arial"/>
                <a:hlinkClick r:id="rId3"/>
              </a:rPr>
              <a:t>вяз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удет рыхлым, неровным, изделие не будет держать форму. </a:t>
            </a:r>
            <a:br>
              <a:rPr sz="2400"/>
            </a:br>
            <a:br>
              <a:rPr sz="2400"/>
            </a:br>
            <a:r>
              <a:rPr b="0" lang="ru-RU" sz="2400" spc="-1" strike="noStrike" u="sng">
                <a:solidFill>
                  <a:srgbClr val="2e6b53"/>
                </a:solidFill>
                <a:uFillTx/>
                <a:latin typeface="Arial"/>
                <a:hlinkClick r:id="rId4"/>
              </a:rPr>
              <a:t>Какие бывают разновидности крючка; как правильно подобрать крючок и сравнительная таблица размеров крючков читать дальше 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3" descr="6951922_429pxCrohook.jpg"/>
          <p:cNvPicPr/>
          <p:nvPr/>
        </p:nvPicPr>
        <p:blipFill>
          <a:blip r:embed="rId5"/>
          <a:stretch/>
        </p:blipFill>
        <p:spPr>
          <a:xfrm>
            <a:off x="325440" y="1484280"/>
            <a:ext cx="2948040" cy="4465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539640" y="33336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ьше крючки изготовлялись из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лоновья кость, бивни, рог крупного рогатого скота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ре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зже их стали изготавливать из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 и брон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к началу прошлого века – из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а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гда же в моду вошли и крючки с декоративным украшением на них (резьба на деревянных ручках, инкрустация )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Сейчас используются крючки из различных материалов: металлические, пластмассовые, деревянные, но в отличи от предыдущих мастеров, современные производители не менее радуют нас своими новинками, которые облегчают нам работу, такими как, например, крючки с подсветкой . Стоимость такого крючка 4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3" descr="2904.jpg"/>
          <p:cNvPicPr/>
          <p:nvPr/>
        </p:nvPicPr>
        <p:blipFill>
          <a:blip r:embed="rId1"/>
          <a:stretch/>
        </p:blipFill>
        <p:spPr>
          <a:xfrm>
            <a:off x="1116000" y="3500280"/>
            <a:ext cx="6769080" cy="288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2:45:00Z</dcterms:created>
  <dc:creator>Света</dc:creator>
  <dc:description/>
  <dc:language>en-US</dc:language>
  <cp:lastModifiedBy>User</cp:lastModifiedBy>
  <dcterms:modified xsi:type="dcterms:W3CDTF">2015-11-11T16:46:16Z</dcterms:modified>
  <cp:revision>17</cp:revision>
  <dc:subject/>
  <dc:title>Вязание крючком. Инструменты и материалы.</dc:title>
</cp:coreProperties>
</file>