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13.jpeg" ContentType="image/jpeg"/>
  <Override PartName="/ppt/media/image23.png" ContentType="image/png"/>
  <Override PartName="/ppt/media/image9.jpeg" ContentType="image/jpeg"/>
  <Override PartName="/ppt/media/image11.png" ContentType="image/png"/>
  <Override PartName="/ppt/media/image12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14.jpeg" ContentType="image/jpeg"/>
  <Override PartName="/ppt/media/image2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4F16-7082-4B4A-9FC1-E6C3B5ED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CE5E-FEDE-4869-A1C4-DA4B2E53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DFD8-5709-4112-95C8-23406B46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98C1-CDE4-4C14-ACB1-F42A2888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EBC1-07F7-4D42-8782-80D9C1CB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45E9-1DD7-42B1-BC87-6A926456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313-695B-479D-AFD1-730BAE18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7580-AD03-4DF6-89A2-A3367B5E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FF65-85DF-4EF2-8246-8864CCCB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B3CB-145C-4519-8A5D-A4F59FF7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5993-AFA3-4815-9BC5-8D46572C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AE62-CD3E-4354-9294-BFE935CB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5976-2D18-4D49-9E47-605C952D1B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я будущая профессия –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к </a:t>
            </a:r>
            <a:br>
              <a:rPr sz="40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фессиональная  ориентация  учащихся  10-11  классов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образовательной организац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4360" y="4436640"/>
            <a:ext cx="47512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Горячкина Ирина Анатольевна, учитель химии ГБОУ СОШ №2 «ОЦ» с. Кинель - Черкасс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39640" y="18900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№2 «ОЦ» с. Кинель - Черка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851280" y="6093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5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Схема 1" descr=""/>
          <p:cNvPicPr/>
          <p:nvPr/>
        </p:nvPicPr>
        <p:blipFill>
          <a:blip r:embed="rId1"/>
          <a:stretch/>
        </p:blipFill>
        <p:spPr>
          <a:xfrm>
            <a:off x="743040" y="615960"/>
            <a:ext cx="7950240" cy="5119560"/>
          </a:xfrm>
          <a:prstGeom prst="rect">
            <a:avLst/>
          </a:prstGeom>
          <a:ln w="0">
            <a:noFill/>
          </a:ln>
        </p:spPr>
      </p:pic>
      <p:sp>
        <p:nvSpPr>
          <p:cNvPr id="68" name="Стрелка вправо 2">
            <a:hlinkClick r:id="rId2" action="ppaction://hlinksldjump"/>
          </p:cNvPr>
          <p:cNvSpPr/>
          <p:nvPr/>
        </p:nvSpPr>
        <p:spPr>
          <a:xfrm>
            <a:off x="8028000" y="6165720"/>
            <a:ext cx="504720" cy="35892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539640" y="549360"/>
            <a:ext cx="8136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одержание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 химический анализ сырья, реакционной смеси веществ, продукта или полупродукта, определяет состав вещества, его количество и пригодность для дальнейшего использования, решает, можно ли ставить клеймо предприятия на выпускаемой проду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ен знать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ческую, неорганическую, аналитическую химию, химическую технологию, принципы моделирования технологических процессов химического производства, методы химического анали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D:\All_DATA\Desktop\конкурс профпродукции\картинки для презентации\lekarstva.jpg"/>
          <p:cNvPicPr/>
          <p:nvPr/>
        </p:nvPicPr>
        <p:blipFill>
          <a:blip r:embed="rId1"/>
          <a:stretch/>
        </p:blipFill>
        <p:spPr>
          <a:xfrm>
            <a:off x="2484360" y="3645000"/>
            <a:ext cx="4365720" cy="2822400"/>
          </a:xfrm>
          <a:prstGeom prst="rect">
            <a:avLst/>
          </a:prstGeom>
          <a:ln w="0">
            <a:noFill/>
          </a:ln>
        </p:spPr>
      </p:pic>
      <p:sp>
        <p:nvSpPr>
          <p:cNvPr id="71" name="5-конечная звезда 3">
            <a:hlinkClick r:id="rId2" action="ppaction://hlinksldjump"/>
          </p:cNvPr>
          <p:cNvSpPr/>
          <p:nvPr/>
        </p:nvSpPr>
        <p:spPr>
          <a:xfrm>
            <a:off x="8459640" y="6093000"/>
            <a:ext cx="433440" cy="504720"/>
          </a:xfrm>
          <a:custGeom>
            <a:avLst/>
            <a:gdLst>
              <a:gd name="textAreaLeft" fmla="*/ 133920 w 433440"/>
              <a:gd name="textAreaRight" fmla="*/ 299520 w 43344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433387" h="504825">
                <a:moveTo>
                  <a:pt x="0" y="192825"/>
                </a:moveTo>
                <a:lnTo>
                  <a:pt x="165540" y="192827"/>
                </a:lnTo>
                <a:lnTo>
                  <a:pt x="216694" y="0"/>
                </a:lnTo>
                <a:lnTo>
                  <a:pt x="267847" y="192827"/>
                </a:lnTo>
                <a:lnTo>
                  <a:pt x="433387" y="192825"/>
                </a:lnTo>
                <a:lnTo>
                  <a:pt x="299462" y="311997"/>
                </a:lnTo>
                <a:lnTo>
                  <a:pt x="350618" y="504823"/>
                </a:lnTo>
                <a:lnTo>
                  <a:pt x="216694" y="385649"/>
                </a:lnTo>
                <a:lnTo>
                  <a:pt x="82769" y="504823"/>
                </a:lnTo>
                <a:lnTo>
                  <a:pt x="133925" y="31199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>
            <a:off x="900000" y="404640"/>
            <a:ext cx="6661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Требования к личности специалис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ая долговременная памя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я вним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и кропотливой рабо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ий склад ум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курат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ность к исследователь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D:\All_DATA\Desktop\конкурс профпродукции\картинки для презентации\d9fcf8c2cd319511c34fa5669217857d.jpg"/>
          <p:cNvPicPr/>
          <p:nvPr/>
        </p:nvPicPr>
        <p:blipFill>
          <a:blip r:embed="rId1"/>
          <a:stretch/>
        </p:blipFill>
        <p:spPr>
          <a:xfrm>
            <a:off x="2195640" y="3213000"/>
            <a:ext cx="4892400" cy="3173400"/>
          </a:xfrm>
          <a:prstGeom prst="rect">
            <a:avLst/>
          </a:prstGeom>
          <a:ln w="0">
            <a:noFill/>
          </a:ln>
        </p:spPr>
      </p:pic>
      <p:sp>
        <p:nvSpPr>
          <p:cNvPr id="74" name="5-конечная звезда 3">
            <a:hlinkClick r:id="rId2" action="ppaction://hlinksldjump"/>
          </p:cNvPr>
          <p:cNvSpPr/>
          <p:nvPr/>
        </p:nvSpPr>
        <p:spPr>
          <a:xfrm>
            <a:off x="8459640" y="6093000"/>
            <a:ext cx="433440" cy="504720"/>
          </a:xfrm>
          <a:custGeom>
            <a:avLst/>
            <a:gdLst>
              <a:gd name="textAreaLeft" fmla="*/ 133920 w 433440"/>
              <a:gd name="textAreaRight" fmla="*/ 299520 w 43344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433387" h="504825">
                <a:moveTo>
                  <a:pt x="0" y="192825"/>
                </a:moveTo>
                <a:lnTo>
                  <a:pt x="165540" y="192827"/>
                </a:lnTo>
                <a:lnTo>
                  <a:pt x="216694" y="0"/>
                </a:lnTo>
                <a:lnTo>
                  <a:pt x="267847" y="192827"/>
                </a:lnTo>
                <a:lnTo>
                  <a:pt x="433387" y="192825"/>
                </a:lnTo>
                <a:lnTo>
                  <a:pt x="299462" y="311997"/>
                </a:lnTo>
                <a:lnTo>
                  <a:pt x="350618" y="504823"/>
                </a:lnTo>
                <a:lnTo>
                  <a:pt x="216694" y="385649"/>
                </a:lnTo>
                <a:lnTo>
                  <a:pt x="82769" y="504823"/>
                </a:lnTo>
                <a:lnTo>
                  <a:pt x="133925" y="31199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468360" y="260280"/>
            <a:ext cx="8280360" cy="36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буч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рский государственный  университет- Химический факуль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аналитической и экспертной хи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яттинский государственный универс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 «Химия и химические технолог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рский институт индустрии питания и бизнеса (филиал) ФГБОУ ВПО «Московский государственный университет технологий и управления имени К.Г.Разумовского»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итут технологий пищевых производств: кафедра «Неорганическая и аналитическая химия имени Клячко Ю.А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ВПО Самарская государственная областная академия (Наянов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ко-биологический факуль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http://www.natplus.it/wp-content/uploads/2013/08/photodune-828671-research-s.jpg"/>
          <p:cNvPicPr/>
          <p:nvPr/>
        </p:nvPicPr>
        <p:blipFill>
          <a:blip r:embed="rId1"/>
          <a:stretch/>
        </p:blipFill>
        <p:spPr>
          <a:xfrm>
            <a:off x="2556000" y="4052880"/>
            <a:ext cx="3744720" cy="2497320"/>
          </a:xfrm>
          <a:prstGeom prst="rect">
            <a:avLst/>
          </a:prstGeom>
          <a:ln w="0">
            <a:noFill/>
          </a:ln>
        </p:spPr>
      </p:pic>
      <p:sp>
        <p:nvSpPr>
          <p:cNvPr id="77" name="5-конечная звезда 3">
            <a:hlinkClick r:id="rId2" action="ppaction://hlinksldjump"/>
          </p:cNvPr>
          <p:cNvSpPr/>
          <p:nvPr/>
        </p:nvSpPr>
        <p:spPr>
          <a:xfrm>
            <a:off x="8459640" y="6093000"/>
            <a:ext cx="433440" cy="504720"/>
          </a:xfrm>
          <a:custGeom>
            <a:avLst/>
            <a:gdLst>
              <a:gd name="textAreaLeft" fmla="*/ 133920 w 433440"/>
              <a:gd name="textAreaRight" fmla="*/ 299520 w 43344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433387" h="504825">
                <a:moveTo>
                  <a:pt x="0" y="192825"/>
                </a:moveTo>
                <a:lnTo>
                  <a:pt x="165540" y="192827"/>
                </a:lnTo>
                <a:lnTo>
                  <a:pt x="216694" y="0"/>
                </a:lnTo>
                <a:lnTo>
                  <a:pt x="267847" y="192827"/>
                </a:lnTo>
                <a:lnTo>
                  <a:pt x="433387" y="192825"/>
                </a:lnTo>
                <a:lnTo>
                  <a:pt x="299462" y="311997"/>
                </a:lnTo>
                <a:lnTo>
                  <a:pt x="350618" y="504823"/>
                </a:lnTo>
                <a:lnTo>
                  <a:pt x="216694" y="385649"/>
                </a:lnTo>
                <a:lnTo>
                  <a:pt x="82769" y="504823"/>
                </a:lnTo>
                <a:lnTo>
                  <a:pt x="133925" y="31199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хема 1" descr=""/>
          <p:cNvPicPr/>
          <p:nvPr/>
        </p:nvPicPr>
        <p:blipFill>
          <a:blip r:embed="rId1"/>
          <a:stretch/>
        </p:blipFill>
        <p:spPr>
          <a:xfrm>
            <a:off x="554040" y="615960"/>
            <a:ext cx="8327880" cy="5119560"/>
          </a:xfrm>
          <a:prstGeom prst="rect">
            <a:avLst/>
          </a:prstGeom>
          <a:ln w="0">
            <a:noFill/>
          </a:ln>
        </p:spPr>
      </p:pic>
      <p:sp>
        <p:nvSpPr>
          <p:cNvPr id="79" name="Стрелка вправо 2">
            <a:hlinkClick r:id="rId2" action="ppaction://hlinksldjump"/>
          </p:cNvPr>
          <p:cNvSpPr/>
          <p:nvPr/>
        </p:nvSpPr>
        <p:spPr>
          <a:xfrm>
            <a:off x="8028000" y="6165720"/>
            <a:ext cx="504720" cy="35892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539640" y="189000"/>
            <a:ext cx="8137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одержание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‚ оптимизация‚ проведение химического синтез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рецептур новых проду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ификация имеющихся рецепту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технологии применения материалов, авторский надзор за технолог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методов синтеза лекарственных субстанций и готовых лекарственных форм;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я в области электрохимии, коррозии, потенциостатические измер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рабочих растворов необходимых концентраций, проведение анализов по физико-химическим и органолептическ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 лабораторном оборудов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http://1.nieuwsbladcdn.be/Assets/Images_Upload/2012/11/23/wetenschap.jpg"/>
          <p:cNvPicPr/>
          <p:nvPr/>
        </p:nvPicPr>
        <p:blipFill>
          <a:blip r:embed="rId1"/>
          <a:stretch/>
        </p:blipFill>
        <p:spPr>
          <a:xfrm>
            <a:off x="4932360" y="4365720"/>
            <a:ext cx="3457440" cy="2305080"/>
          </a:xfrm>
          <a:prstGeom prst="rect">
            <a:avLst/>
          </a:prstGeom>
          <a:ln w="0">
            <a:noFill/>
          </a:ln>
        </p:spPr>
      </p:pic>
      <p:sp>
        <p:nvSpPr>
          <p:cNvPr id="82" name="5-конечная звезда 3">
            <a:hlinkClick r:id="rId2" action="ppaction://hlinksldjump"/>
          </p:cNvPr>
          <p:cNvSpPr/>
          <p:nvPr/>
        </p:nvSpPr>
        <p:spPr>
          <a:xfrm>
            <a:off x="8459640" y="6093000"/>
            <a:ext cx="433440" cy="504720"/>
          </a:xfrm>
          <a:custGeom>
            <a:avLst/>
            <a:gdLst>
              <a:gd name="textAreaLeft" fmla="*/ 133920 w 433440"/>
              <a:gd name="textAreaRight" fmla="*/ 299520 w 43344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433387" h="504825">
                <a:moveTo>
                  <a:pt x="0" y="192825"/>
                </a:moveTo>
                <a:lnTo>
                  <a:pt x="165540" y="192827"/>
                </a:lnTo>
                <a:lnTo>
                  <a:pt x="216694" y="0"/>
                </a:lnTo>
                <a:lnTo>
                  <a:pt x="267847" y="192827"/>
                </a:lnTo>
                <a:lnTo>
                  <a:pt x="433387" y="192825"/>
                </a:lnTo>
                <a:lnTo>
                  <a:pt x="299462" y="311997"/>
                </a:lnTo>
                <a:lnTo>
                  <a:pt x="350618" y="504823"/>
                </a:lnTo>
                <a:lnTo>
                  <a:pt x="216694" y="385649"/>
                </a:lnTo>
                <a:lnTo>
                  <a:pt x="82769" y="504823"/>
                </a:lnTo>
                <a:lnTo>
                  <a:pt x="133925" y="31199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611280" y="476280"/>
            <a:ext cx="781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Требования к личности специалис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ое логическое и интуитивное мышл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ранственное вообра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ая долговременная и оперативная памя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к концентрации и распределению вним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ий склад 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курат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ность к исследователь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http://m.ocdn.eu/_m/aa197b05c6101d683907bc5cea82fad7,50,1,0-53-1000-562-0.jpg"/>
          <p:cNvPicPr/>
          <p:nvPr/>
        </p:nvPicPr>
        <p:blipFill>
          <a:blip r:embed="rId1"/>
          <a:stretch/>
        </p:blipFill>
        <p:spPr>
          <a:xfrm>
            <a:off x="2050920" y="3573360"/>
            <a:ext cx="5234040" cy="2938680"/>
          </a:xfrm>
          <a:prstGeom prst="rect">
            <a:avLst/>
          </a:prstGeom>
          <a:ln w="0">
            <a:noFill/>
          </a:ln>
        </p:spPr>
      </p:pic>
      <p:sp>
        <p:nvSpPr>
          <p:cNvPr id="85" name="5-конечная звезда 3">
            <a:hlinkClick r:id="rId2" action="ppaction://hlinksldjump"/>
          </p:cNvPr>
          <p:cNvSpPr/>
          <p:nvPr/>
        </p:nvSpPr>
        <p:spPr>
          <a:xfrm>
            <a:off x="8459640" y="6093000"/>
            <a:ext cx="433440" cy="504720"/>
          </a:xfrm>
          <a:custGeom>
            <a:avLst/>
            <a:gdLst>
              <a:gd name="textAreaLeft" fmla="*/ 133920 w 433440"/>
              <a:gd name="textAreaRight" fmla="*/ 299520 w 43344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433387" h="504825">
                <a:moveTo>
                  <a:pt x="0" y="192825"/>
                </a:moveTo>
                <a:lnTo>
                  <a:pt x="165540" y="192827"/>
                </a:lnTo>
                <a:lnTo>
                  <a:pt x="216694" y="0"/>
                </a:lnTo>
                <a:lnTo>
                  <a:pt x="267847" y="192827"/>
                </a:lnTo>
                <a:lnTo>
                  <a:pt x="433387" y="192825"/>
                </a:lnTo>
                <a:lnTo>
                  <a:pt x="299462" y="311997"/>
                </a:lnTo>
                <a:lnTo>
                  <a:pt x="350618" y="504823"/>
                </a:lnTo>
                <a:lnTo>
                  <a:pt x="216694" y="385649"/>
                </a:lnTo>
                <a:lnTo>
                  <a:pt x="82769" y="504823"/>
                </a:lnTo>
                <a:lnTo>
                  <a:pt x="133925" y="31199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539640" y="69228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бу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рский государственный университет – Химический факуль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рский институт индустрии питания и бизнеса (филиал) ФГБОУ ВПО «Московский государственный университет технологий и управления имени К.Г.Разумовского»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итут технологий пищевых производств: кафедра «Неорганическая и аналитическая химия имени Клячко Ю.А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ВПО Самарская государственная областная академия (Наянов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ко-биологический факуль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http://static.in.gr/webstatic/E07A9047CC1CB5E1A2290D8CC8F66DB5.jpg"/>
          <p:cNvPicPr/>
          <p:nvPr/>
        </p:nvPicPr>
        <p:blipFill>
          <a:blip r:embed="rId1"/>
          <a:stretch/>
        </p:blipFill>
        <p:spPr>
          <a:xfrm>
            <a:off x="2411280" y="3500280"/>
            <a:ext cx="4619880" cy="2886120"/>
          </a:xfrm>
          <a:prstGeom prst="rect">
            <a:avLst/>
          </a:prstGeom>
          <a:ln w="0">
            <a:noFill/>
          </a:ln>
        </p:spPr>
      </p:pic>
      <p:sp>
        <p:nvSpPr>
          <p:cNvPr id="88" name="5-конечная звезда 3">
            <a:hlinkClick r:id="rId2" action="ppaction://hlinksldjump"/>
          </p:cNvPr>
          <p:cNvSpPr/>
          <p:nvPr/>
        </p:nvSpPr>
        <p:spPr>
          <a:xfrm>
            <a:off x="8459640" y="6093000"/>
            <a:ext cx="433440" cy="504720"/>
          </a:xfrm>
          <a:custGeom>
            <a:avLst/>
            <a:gdLst>
              <a:gd name="textAreaLeft" fmla="*/ 133920 w 433440"/>
              <a:gd name="textAreaRight" fmla="*/ 299520 w 43344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433387" h="504825">
                <a:moveTo>
                  <a:pt x="0" y="192825"/>
                </a:moveTo>
                <a:lnTo>
                  <a:pt x="165540" y="192827"/>
                </a:lnTo>
                <a:lnTo>
                  <a:pt x="216694" y="0"/>
                </a:lnTo>
                <a:lnTo>
                  <a:pt x="267847" y="192827"/>
                </a:lnTo>
                <a:lnTo>
                  <a:pt x="433387" y="192825"/>
                </a:lnTo>
                <a:lnTo>
                  <a:pt x="299462" y="311997"/>
                </a:lnTo>
                <a:lnTo>
                  <a:pt x="350618" y="504823"/>
                </a:lnTo>
                <a:lnTo>
                  <a:pt x="216694" y="385649"/>
                </a:lnTo>
                <a:lnTo>
                  <a:pt x="82769" y="504823"/>
                </a:lnTo>
                <a:lnTo>
                  <a:pt x="133925" y="31199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хема 1" descr=""/>
          <p:cNvPicPr/>
          <p:nvPr/>
        </p:nvPicPr>
        <p:blipFill>
          <a:blip r:embed="rId1"/>
          <a:stretch/>
        </p:blipFill>
        <p:spPr>
          <a:xfrm>
            <a:off x="743040" y="615960"/>
            <a:ext cx="7950240" cy="5119560"/>
          </a:xfrm>
          <a:prstGeom prst="rect">
            <a:avLst/>
          </a:prstGeom>
          <a:ln w="0">
            <a:noFill/>
          </a:ln>
        </p:spPr>
      </p:pic>
      <p:sp>
        <p:nvSpPr>
          <p:cNvPr id="90" name="Стрелка вправо 2">
            <a:hlinkClick r:id="rId2" action="ppaction://hlinksldjump"/>
          </p:cNvPr>
          <p:cNvSpPr/>
          <p:nvPr/>
        </p:nvSpPr>
        <p:spPr>
          <a:xfrm>
            <a:off x="8028000" y="6165720"/>
            <a:ext cx="504720" cy="35892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2"/>
          <p:cNvSpPr/>
          <p:nvPr/>
        </p:nvSpPr>
        <p:spPr>
          <a:xfrm>
            <a:off x="611280" y="549360"/>
            <a:ext cx="7993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одержание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вт разрабатывает и совершенствует уже имеющиеся лекарственные вещества. Готовит разнообразные лекарственные препараты. Это могут быть таблетки, порошки, мази и микстуры. Осваивает и совершенствует технологию приготовления лекарственных веществ. Консультирует клиентов по вопросам фармакологических свойств и правил приёма. Осуществляет контроль над качеством лекарств. Принимает участие в рекламной акции фармацевтических сред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D:\All_DATA\Desktop\f2a8a5b92fe04bd7385930040d1.jpg"/>
          <p:cNvPicPr/>
          <p:nvPr/>
        </p:nvPicPr>
        <p:blipFill>
          <a:blip r:embed="rId1"/>
          <a:stretch/>
        </p:blipFill>
        <p:spPr>
          <a:xfrm>
            <a:off x="2340000" y="3573360"/>
            <a:ext cx="4881600" cy="2917800"/>
          </a:xfrm>
          <a:prstGeom prst="rect">
            <a:avLst/>
          </a:prstGeom>
          <a:ln w="0">
            <a:noFill/>
          </a:ln>
        </p:spPr>
      </p:pic>
      <p:sp>
        <p:nvSpPr>
          <p:cNvPr id="93" name="5-конечная звезда 3">
            <a:hlinkClick r:id="rId2" action="ppaction://hlinksldjump"/>
          </p:cNvPr>
          <p:cNvSpPr/>
          <p:nvPr/>
        </p:nvSpPr>
        <p:spPr>
          <a:xfrm>
            <a:off x="8459640" y="6093000"/>
            <a:ext cx="433440" cy="504720"/>
          </a:xfrm>
          <a:custGeom>
            <a:avLst/>
            <a:gdLst>
              <a:gd name="textAreaLeft" fmla="*/ 133920 w 433440"/>
              <a:gd name="textAreaRight" fmla="*/ 299520 w 43344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433387" h="504825">
                <a:moveTo>
                  <a:pt x="0" y="192825"/>
                </a:moveTo>
                <a:lnTo>
                  <a:pt x="165540" y="192827"/>
                </a:lnTo>
                <a:lnTo>
                  <a:pt x="216694" y="0"/>
                </a:lnTo>
                <a:lnTo>
                  <a:pt x="267847" y="192827"/>
                </a:lnTo>
                <a:lnTo>
                  <a:pt x="433387" y="192825"/>
                </a:lnTo>
                <a:lnTo>
                  <a:pt x="299462" y="311997"/>
                </a:lnTo>
                <a:lnTo>
                  <a:pt x="350618" y="504823"/>
                </a:lnTo>
                <a:lnTo>
                  <a:pt x="216694" y="385649"/>
                </a:lnTo>
                <a:lnTo>
                  <a:pt x="82769" y="504823"/>
                </a:lnTo>
                <a:lnTo>
                  <a:pt x="133925" y="31199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хема 6" descr=""/>
          <p:cNvPicPr/>
          <p:nvPr/>
        </p:nvPicPr>
        <p:blipFill>
          <a:blip r:embed="rId1"/>
          <a:stretch/>
        </p:blipFill>
        <p:spPr>
          <a:xfrm>
            <a:off x="743040" y="615960"/>
            <a:ext cx="7950240" cy="5119560"/>
          </a:xfrm>
          <a:prstGeom prst="rect">
            <a:avLst/>
          </a:prstGeom>
          <a:ln w="0">
            <a:noFill/>
          </a:ln>
        </p:spPr>
      </p:pic>
      <p:sp>
        <p:nvSpPr>
          <p:cNvPr id="46" name="Стрелка вправо 4">
            <a:hlinkClick r:id="rId2" action="ppaction://hlinksldjump"/>
          </p:cNvPr>
          <p:cNvSpPr/>
          <p:nvPr/>
        </p:nvSpPr>
        <p:spPr>
          <a:xfrm>
            <a:off x="8028000" y="6165720"/>
            <a:ext cx="504720" cy="35892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539640" y="260280"/>
            <a:ext cx="806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Требования к личности специалист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курат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тель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нность и высокий самоконтро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бельность и отзывчив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удирован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знательн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ь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ий склад 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работы важна деятельность сенсорных систем, внимания, памяти, активизация мышления и эмоциональной сферы.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D:\All_DATA\Desktop\конкурс профпродукции\картинки для презентации\20120912_YK_1529_L.jpg"/>
          <p:cNvPicPr/>
          <p:nvPr/>
        </p:nvPicPr>
        <p:blipFill>
          <a:blip r:embed="rId1"/>
          <a:stretch/>
        </p:blipFill>
        <p:spPr>
          <a:xfrm>
            <a:off x="2627280" y="3857760"/>
            <a:ext cx="3889440" cy="2595600"/>
          </a:xfrm>
          <a:prstGeom prst="rect">
            <a:avLst/>
          </a:prstGeom>
          <a:ln w="0">
            <a:noFill/>
          </a:ln>
        </p:spPr>
      </p:pic>
      <p:sp>
        <p:nvSpPr>
          <p:cNvPr id="96" name="5-конечная звезда 3">
            <a:hlinkClick r:id="rId2" action="ppaction://hlinksldjump"/>
          </p:cNvPr>
          <p:cNvSpPr/>
          <p:nvPr/>
        </p:nvSpPr>
        <p:spPr>
          <a:xfrm>
            <a:off x="8459640" y="6093000"/>
            <a:ext cx="433440" cy="504720"/>
          </a:xfrm>
          <a:custGeom>
            <a:avLst/>
            <a:gdLst>
              <a:gd name="textAreaLeft" fmla="*/ 133920 w 433440"/>
              <a:gd name="textAreaRight" fmla="*/ 299520 w 43344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433387" h="504825">
                <a:moveTo>
                  <a:pt x="0" y="192825"/>
                </a:moveTo>
                <a:lnTo>
                  <a:pt x="165540" y="192827"/>
                </a:lnTo>
                <a:lnTo>
                  <a:pt x="216694" y="0"/>
                </a:lnTo>
                <a:lnTo>
                  <a:pt x="267847" y="192827"/>
                </a:lnTo>
                <a:lnTo>
                  <a:pt x="433387" y="192825"/>
                </a:lnTo>
                <a:lnTo>
                  <a:pt x="299462" y="311997"/>
                </a:lnTo>
                <a:lnTo>
                  <a:pt x="350618" y="504823"/>
                </a:lnTo>
                <a:lnTo>
                  <a:pt x="216694" y="385649"/>
                </a:lnTo>
                <a:lnTo>
                  <a:pt x="82769" y="504823"/>
                </a:lnTo>
                <a:lnTo>
                  <a:pt x="133925" y="31199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468360" y="47628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буч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рский государственный медицинский универс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рский медицинский университет «РЕАВИЗ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ПОУ Самарский медицинский колледж им. Н. Ляпи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http://farmcollege.ru/uploadedFiles/images/hist_photo/IMG_3016_s.jpg"/>
          <p:cNvPicPr/>
          <p:nvPr/>
        </p:nvPicPr>
        <p:blipFill>
          <a:blip r:embed="rId1"/>
          <a:stretch/>
        </p:blipFill>
        <p:spPr>
          <a:xfrm>
            <a:off x="2195640" y="2565360"/>
            <a:ext cx="5256000" cy="3503520"/>
          </a:xfrm>
          <a:prstGeom prst="rect">
            <a:avLst/>
          </a:prstGeom>
          <a:ln w="0">
            <a:noFill/>
          </a:ln>
        </p:spPr>
      </p:pic>
      <p:sp>
        <p:nvSpPr>
          <p:cNvPr id="99" name="5-конечная звезда 3">
            <a:hlinkClick r:id="rId2" action="ppaction://hlinksldjump"/>
          </p:cNvPr>
          <p:cNvSpPr/>
          <p:nvPr/>
        </p:nvSpPr>
        <p:spPr>
          <a:xfrm>
            <a:off x="8459640" y="6093000"/>
            <a:ext cx="433440" cy="504720"/>
          </a:xfrm>
          <a:custGeom>
            <a:avLst/>
            <a:gdLst>
              <a:gd name="textAreaLeft" fmla="*/ 133920 w 433440"/>
              <a:gd name="textAreaRight" fmla="*/ 299520 w 43344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433387" h="504825">
                <a:moveTo>
                  <a:pt x="0" y="192825"/>
                </a:moveTo>
                <a:lnTo>
                  <a:pt x="165540" y="192827"/>
                </a:lnTo>
                <a:lnTo>
                  <a:pt x="216694" y="0"/>
                </a:lnTo>
                <a:lnTo>
                  <a:pt x="267847" y="192827"/>
                </a:lnTo>
                <a:lnTo>
                  <a:pt x="433387" y="192825"/>
                </a:lnTo>
                <a:lnTo>
                  <a:pt x="299462" y="311997"/>
                </a:lnTo>
                <a:lnTo>
                  <a:pt x="350618" y="504823"/>
                </a:lnTo>
                <a:lnTo>
                  <a:pt x="216694" y="385649"/>
                </a:lnTo>
                <a:lnTo>
                  <a:pt x="82769" y="504823"/>
                </a:lnTo>
                <a:lnTo>
                  <a:pt x="133925" y="31199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хема 1" descr=""/>
          <p:cNvPicPr/>
          <p:nvPr/>
        </p:nvPicPr>
        <p:blipFill>
          <a:blip r:embed="rId1"/>
          <a:stretch/>
        </p:blipFill>
        <p:spPr>
          <a:xfrm>
            <a:off x="743040" y="615960"/>
            <a:ext cx="7950240" cy="5119560"/>
          </a:xfrm>
          <a:prstGeom prst="rect">
            <a:avLst/>
          </a:prstGeom>
          <a:ln w="0">
            <a:noFill/>
          </a:ln>
        </p:spPr>
      </p:pic>
      <p:sp>
        <p:nvSpPr>
          <p:cNvPr id="101" name="Стрелка вправо 2">
            <a:hlinkClick r:id="rId2" action="ppaction://hlinksldjump"/>
          </p:cNvPr>
          <p:cNvSpPr/>
          <p:nvPr/>
        </p:nvSpPr>
        <p:spPr>
          <a:xfrm>
            <a:off x="8028000" y="6165720"/>
            <a:ext cx="504720" cy="35892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539640" y="189000"/>
            <a:ext cx="7993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одержание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 в области биохимии (науки, изучающей структуру, распределение, превращение и биологические функции химических веществ, входящих в состав живых организм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едприятиях медицинской промышленности разрабатывает и ведет технологические процессы по фракционированию микробиологических продуктов, препаратов на крови человека и животных или других белковых веществ. Следит за соблюдением технологического регламента биохимического процесса. Контролирует реактивы, сырьё, материалы, полуфабрикаты химический состав и свойства готовой продукции. Выполняет расчеты по биохимическим анализам, испытаниям и исследованиям. Участвует в научно-исследовательской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D:\All_DATA\Desktop\конкурс профпродукции\картинки для презентации\hepa_1.jpg"/>
          <p:cNvPicPr/>
          <p:nvPr/>
        </p:nvPicPr>
        <p:blipFill>
          <a:blip r:embed="rId1"/>
          <a:stretch/>
        </p:blipFill>
        <p:spPr>
          <a:xfrm>
            <a:off x="3059280" y="4365720"/>
            <a:ext cx="3384360" cy="2289240"/>
          </a:xfrm>
          <a:prstGeom prst="rect">
            <a:avLst/>
          </a:prstGeom>
          <a:ln w="0">
            <a:noFill/>
          </a:ln>
        </p:spPr>
      </p:pic>
      <p:sp>
        <p:nvSpPr>
          <p:cNvPr id="104" name="5-конечная звезда 3">
            <a:hlinkClick r:id="rId2" action="ppaction://hlinksldjump"/>
          </p:cNvPr>
          <p:cNvSpPr/>
          <p:nvPr/>
        </p:nvSpPr>
        <p:spPr>
          <a:xfrm>
            <a:off x="8459640" y="6093000"/>
            <a:ext cx="433440" cy="504720"/>
          </a:xfrm>
          <a:custGeom>
            <a:avLst/>
            <a:gdLst>
              <a:gd name="textAreaLeft" fmla="*/ 133920 w 433440"/>
              <a:gd name="textAreaRight" fmla="*/ 299520 w 43344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433387" h="504825">
                <a:moveTo>
                  <a:pt x="0" y="192825"/>
                </a:moveTo>
                <a:lnTo>
                  <a:pt x="165540" y="192827"/>
                </a:lnTo>
                <a:lnTo>
                  <a:pt x="216694" y="0"/>
                </a:lnTo>
                <a:lnTo>
                  <a:pt x="267847" y="192827"/>
                </a:lnTo>
                <a:lnTo>
                  <a:pt x="433387" y="192825"/>
                </a:lnTo>
                <a:lnTo>
                  <a:pt x="299462" y="311997"/>
                </a:lnTo>
                <a:lnTo>
                  <a:pt x="350618" y="504823"/>
                </a:lnTo>
                <a:lnTo>
                  <a:pt x="216694" y="385649"/>
                </a:lnTo>
                <a:lnTo>
                  <a:pt x="82769" y="504823"/>
                </a:lnTo>
                <a:lnTo>
                  <a:pt x="133925" y="31199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684360" y="260280"/>
            <a:ext cx="78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Требования к личности специалист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куратн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тельн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дчив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ое мыш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лжен зн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ю производства продуктов биосинтез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 и химический состав выпускаемой продук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ую фармакопе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производству и биохимическому контролю продук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охраны труда, техники безопасности и производственной санита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http://www.tricoaccademy.it/images/analisi%20diagnosi.jpg"/>
          <p:cNvPicPr/>
          <p:nvPr/>
        </p:nvPicPr>
        <p:blipFill>
          <a:blip r:embed="rId1"/>
          <a:stretch/>
        </p:blipFill>
        <p:spPr>
          <a:xfrm>
            <a:off x="2627280" y="3716280"/>
            <a:ext cx="4284720" cy="2857680"/>
          </a:xfrm>
          <a:prstGeom prst="rect">
            <a:avLst/>
          </a:prstGeom>
          <a:ln w="0">
            <a:noFill/>
          </a:ln>
        </p:spPr>
      </p:pic>
      <p:sp>
        <p:nvSpPr>
          <p:cNvPr id="107" name="5-конечная звезда 3">
            <a:hlinkClick r:id="rId2" action="ppaction://hlinksldjump"/>
          </p:cNvPr>
          <p:cNvSpPr/>
          <p:nvPr/>
        </p:nvSpPr>
        <p:spPr>
          <a:xfrm>
            <a:off x="8459640" y="6093000"/>
            <a:ext cx="433440" cy="504720"/>
          </a:xfrm>
          <a:custGeom>
            <a:avLst/>
            <a:gdLst>
              <a:gd name="textAreaLeft" fmla="*/ 133920 w 433440"/>
              <a:gd name="textAreaRight" fmla="*/ 299520 w 43344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433387" h="504825">
                <a:moveTo>
                  <a:pt x="0" y="192825"/>
                </a:moveTo>
                <a:lnTo>
                  <a:pt x="165540" y="192827"/>
                </a:lnTo>
                <a:lnTo>
                  <a:pt x="216694" y="0"/>
                </a:lnTo>
                <a:lnTo>
                  <a:pt x="267847" y="192827"/>
                </a:lnTo>
                <a:lnTo>
                  <a:pt x="433387" y="192825"/>
                </a:lnTo>
                <a:lnTo>
                  <a:pt x="299462" y="311997"/>
                </a:lnTo>
                <a:lnTo>
                  <a:pt x="350618" y="504823"/>
                </a:lnTo>
                <a:lnTo>
                  <a:pt x="216694" y="385649"/>
                </a:lnTo>
                <a:lnTo>
                  <a:pt x="82769" y="504823"/>
                </a:lnTo>
                <a:lnTo>
                  <a:pt x="133925" y="31199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611280" y="692280"/>
            <a:ext cx="813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буч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рский государственный университет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й факуль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рский государственный технический университет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ь «Биотехнолог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ВПО Самарская государственная областная академия (Наянов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ко-биологический факуль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http://bio.bsu.by.osiris.neolocation.net/dekanat/files/abitur_speciality01.jpg"/>
          <p:cNvPicPr/>
          <p:nvPr/>
        </p:nvPicPr>
        <p:blipFill>
          <a:blip r:embed="rId1"/>
          <a:stretch/>
        </p:blipFill>
        <p:spPr>
          <a:xfrm>
            <a:off x="2843280" y="3500280"/>
            <a:ext cx="3600360" cy="2967120"/>
          </a:xfrm>
          <a:prstGeom prst="rect">
            <a:avLst/>
          </a:prstGeom>
          <a:ln w="0">
            <a:noFill/>
          </a:ln>
        </p:spPr>
      </p:pic>
      <p:sp>
        <p:nvSpPr>
          <p:cNvPr id="110" name="5-конечная звезда 3">
            <a:hlinkClick r:id="rId2" action="ppaction://hlinksldjump"/>
          </p:cNvPr>
          <p:cNvSpPr/>
          <p:nvPr/>
        </p:nvSpPr>
        <p:spPr>
          <a:xfrm>
            <a:off x="8459640" y="6093000"/>
            <a:ext cx="433440" cy="504720"/>
          </a:xfrm>
          <a:custGeom>
            <a:avLst/>
            <a:gdLst>
              <a:gd name="textAreaLeft" fmla="*/ 133920 w 433440"/>
              <a:gd name="textAreaRight" fmla="*/ 299520 w 43344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433387" h="504825">
                <a:moveTo>
                  <a:pt x="0" y="192825"/>
                </a:moveTo>
                <a:lnTo>
                  <a:pt x="165540" y="192827"/>
                </a:lnTo>
                <a:lnTo>
                  <a:pt x="216694" y="0"/>
                </a:lnTo>
                <a:lnTo>
                  <a:pt x="267847" y="192827"/>
                </a:lnTo>
                <a:lnTo>
                  <a:pt x="433387" y="192825"/>
                </a:lnTo>
                <a:lnTo>
                  <a:pt x="299462" y="311997"/>
                </a:lnTo>
                <a:lnTo>
                  <a:pt x="350618" y="504823"/>
                </a:lnTo>
                <a:lnTo>
                  <a:pt x="216694" y="385649"/>
                </a:lnTo>
                <a:lnTo>
                  <a:pt x="82769" y="504823"/>
                </a:lnTo>
                <a:lnTo>
                  <a:pt x="133925" y="31199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Схема 1" descr=""/>
          <p:cNvPicPr/>
          <p:nvPr/>
        </p:nvPicPr>
        <p:blipFill>
          <a:blip r:embed="rId1"/>
          <a:stretch/>
        </p:blipFill>
        <p:spPr>
          <a:xfrm>
            <a:off x="743040" y="615960"/>
            <a:ext cx="7950240" cy="5119560"/>
          </a:xfrm>
          <a:prstGeom prst="rect">
            <a:avLst/>
          </a:prstGeom>
          <a:ln w="0">
            <a:noFill/>
          </a:ln>
        </p:spPr>
      </p:pic>
      <p:sp>
        <p:nvSpPr>
          <p:cNvPr id="112" name="Стрелка вправо 2"/>
          <p:cNvSpPr/>
          <p:nvPr/>
        </p:nvSpPr>
        <p:spPr>
          <a:xfrm>
            <a:off x="8028000" y="6165720"/>
            <a:ext cx="504720" cy="35892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611280" y="404640"/>
            <a:ext cx="7993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одержание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химических исследований в лаборатории (почвы, вода, воздух рабочей зоны, выбросы в атмосфер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 на забор проб / проведение измер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протоколов исслед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экологической документации. Исследование вредных химических факторов воздушно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http://www.omprofcentr.ru/images/professiogramma/ekolog_2.png"/>
          <p:cNvPicPr/>
          <p:nvPr/>
        </p:nvPicPr>
        <p:blipFill>
          <a:blip r:embed="rId1"/>
          <a:stretch/>
        </p:blipFill>
        <p:spPr>
          <a:xfrm>
            <a:off x="2771640" y="3213000"/>
            <a:ext cx="4364280" cy="3222720"/>
          </a:xfrm>
          <a:prstGeom prst="rect">
            <a:avLst/>
          </a:prstGeom>
          <a:ln w="0">
            <a:noFill/>
          </a:ln>
        </p:spPr>
      </p:pic>
      <p:sp>
        <p:nvSpPr>
          <p:cNvPr id="115" name="5-конечная звезда 3"/>
          <p:cNvSpPr/>
          <p:nvPr/>
        </p:nvSpPr>
        <p:spPr>
          <a:xfrm>
            <a:off x="8459640" y="6093000"/>
            <a:ext cx="433440" cy="504720"/>
          </a:xfrm>
          <a:custGeom>
            <a:avLst/>
            <a:gdLst>
              <a:gd name="textAreaLeft" fmla="*/ 133920 w 433440"/>
              <a:gd name="textAreaRight" fmla="*/ 299520 w 43344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433387" h="504825">
                <a:moveTo>
                  <a:pt x="0" y="192825"/>
                </a:moveTo>
                <a:lnTo>
                  <a:pt x="165540" y="192827"/>
                </a:lnTo>
                <a:lnTo>
                  <a:pt x="216694" y="0"/>
                </a:lnTo>
                <a:lnTo>
                  <a:pt x="267847" y="192827"/>
                </a:lnTo>
                <a:lnTo>
                  <a:pt x="433387" y="192825"/>
                </a:lnTo>
                <a:lnTo>
                  <a:pt x="299462" y="311997"/>
                </a:lnTo>
                <a:lnTo>
                  <a:pt x="350618" y="504823"/>
                </a:lnTo>
                <a:lnTo>
                  <a:pt x="216694" y="385649"/>
                </a:lnTo>
                <a:lnTo>
                  <a:pt x="82769" y="504823"/>
                </a:lnTo>
                <a:lnTo>
                  <a:pt x="133925" y="31199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http://www.start4you.ru/upload/content/2855/3.jpg"/>
          <p:cNvPicPr/>
          <p:nvPr/>
        </p:nvPicPr>
        <p:blipFill>
          <a:blip r:embed="rId1"/>
          <a:stretch/>
        </p:blipFill>
        <p:spPr>
          <a:xfrm>
            <a:off x="6156360" y="3716280"/>
            <a:ext cx="2190600" cy="285768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1"/>
          <p:cNvSpPr/>
          <p:nvPr/>
        </p:nvSpPr>
        <p:spPr>
          <a:xfrm>
            <a:off x="539640" y="260280"/>
            <a:ext cx="8136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Требования к личности специалис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обходимые профессиональные навыки и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свободно разбираться в экологическом законодательстве, стандартах и норматив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физики, химии, биологии, процессов проходящих в окружающей сре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представление о порядке проведения экологической экспертиз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методы экологического мониторин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навыки компьютерного модел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чные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кура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ий склад 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ечение живой природ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к научному творч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работать в коман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оспособ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5-конечная звезда 3"/>
          <p:cNvSpPr/>
          <p:nvPr/>
        </p:nvSpPr>
        <p:spPr>
          <a:xfrm>
            <a:off x="8459640" y="6093000"/>
            <a:ext cx="433440" cy="504720"/>
          </a:xfrm>
          <a:custGeom>
            <a:avLst/>
            <a:gdLst>
              <a:gd name="textAreaLeft" fmla="*/ 133920 w 433440"/>
              <a:gd name="textAreaRight" fmla="*/ 299520 w 43344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433387" h="504825">
                <a:moveTo>
                  <a:pt x="0" y="192825"/>
                </a:moveTo>
                <a:lnTo>
                  <a:pt x="165540" y="192827"/>
                </a:lnTo>
                <a:lnTo>
                  <a:pt x="216694" y="0"/>
                </a:lnTo>
                <a:lnTo>
                  <a:pt x="267847" y="192827"/>
                </a:lnTo>
                <a:lnTo>
                  <a:pt x="433387" y="192825"/>
                </a:lnTo>
                <a:lnTo>
                  <a:pt x="299462" y="311997"/>
                </a:lnTo>
                <a:lnTo>
                  <a:pt x="350618" y="504823"/>
                </a:lnTo>
                <a:lnTo>
                  <a:pt x="216694" y="385649"/>
                </a:lnTo>
                <a:lnTo>
                  <a:pt x="82769" y="504823"/>
                </a:lnTo>
                <a:lnTo>
                  <a:pt x="133925" y="31199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468360" y="260280"/>
            <a:ext cx="8351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бу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рский государственный университет – Биологический факуль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рский государственный технический университет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ь «Биотехнолог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лжская социально-гуманитарная академия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биологии, экологии и методики обучения – профиль «Эколог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химии, географии и методики их преподавания - профиль «Эколог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рская государственная сельскохозяйственная академия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ьтет Биотехнологии и ветеринарной медицины: направление «Экология и природопользовани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яттинский государственный университе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«Инженерная защита окружающей сред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жский университет имени В.Н. Татищева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й факультет: направление «Экология и природопользовани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рский институт индустрии питания и бизнеса (филиал) ФГБОУ ВПО «Московский государственный университет технологий и управления имени К.Г.Разумовского»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итут технологий пищевых производств: кафедра «Неорганическая и аналитическая химия имени Клячко Ю.А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ВПО Самарская государственная областная академия (Наянов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ко-биологический факуль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5-конечная звезда 2"/>
          <p:cNvSpPr/>
          <p:nvPr/>
        </p:nvSpPr>
        <p:spPr>
          <a:xfrm>
            <a:off x="8459640" y="6093000"/>
            <a:ext cx="433440" cy="504720"/>
          </a:xfrm>
          <a:custGeom>
            <a:avLst/>
            <a:gdLst>
              <a:gd name="textAreaLeft" fmla="*/ 133920 w 433440"/>
              <a:gd name="textAreaRight" fmla="*/ 299520 w 43344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433387" h="504825">
                <a:moveTo>
                  <a:pt x="0" y="192825"/>
                </a:moveTo>
                <a:lnTo>
                  <a:pt x="165540" y="192827"/>
                </a:lnTo>
                <a:lnTo>
                  <a:pt x="216694" y="0"/>
                </a:lnTo>
                <a:lnTo>
                  <a:pt x="267847" y="192827"/>
                </a:lnTo>
                <a:lnTo>
                  <a:pt x="433387" y="192825"/>
                </a:lnTo>
                <a:lnTo>
                  <a:pt x="299462" y="311997"/>
                </a:lnTo>
                <a:lnTo>
                  <a:pt x="350618" y="504823"/>
                </a:lnTo>
                <a:lnTo>
                  <a:pt x="216694" y="385649"/>
                </a:lnTo>
                <a:lnTo>
                  <a:pt x="82769" y="504823"/>
                </a:lnTo>
                <a:lnTo>
                  <a:pt x="133925" y="31199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611280" y="347400"/>
            <a:ext cx="7921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Содержание деятельности:</a:t>
            </a:r>
            <a:r>
              <a:rPr b="1" lang="ru-RU" sz="2000" spc="-1" strike="noStrike">
                <a:solidFill>
                  <a:srgbClr val="6699ff"/>
                </a:solidFill>
                <a:latin typeface="Times New Roman"/>
                <a:ea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атывает новые и совершенствует действующие технологические правила производства продук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зультатом деятельности специалиста является экономичный и технически доступный проект получения в промышленных масштабах необходимого продукта, предмета или вида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роекте рассчитывается расход сырья, материалов и энергии, учитывается качество и количество отходов, а также способ их утилизации. Помимо этого технолог может осуществлять контроль образцов сырья, материалов, полуфабрикатов и готовой продукции на производстве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D:\All_DATA\Desktop\конкурс профпродукции\картинки для презентации\химик - технолог.jpg"/>
          <p:cNvPicPr/>
          <p:nvPr/>
        </p:nvPicPr>
        <p:blipFill>
          <a:blip r:embed="rId1"/>
          <a:stretch/>
        </p:blipFill>
        <p:spPr>
          <a:xfrm>
            <a:off x="2843280" y="3933720"/>
            <a:ext cx="3959280" cy="2641680"/>
          </a:xfrm>
          <a:prstGeom prst="rect">
            <a:avLst/>
          </a:prstGeom>
          <a:ln w="0">
            <a:noFill/>
          </a:ln>
        </p:spPr>
      </p:pic>
      <p:sp>
        <p:nvSpPr>
          <p:cNvPr id="49" name="5-конечная звезда 3">
            <a:hlinkClick r:id="rId2" action="ppaction://hlinksldjump"/>
          </p:cNvPr>
          <p:cNvSpPr/>
          <p:nvPr/>
        </p:nvSpPr>
        <p:spPr>
          <a:xfrm>
            <a:off x="8459640" y="6093000"/>
            <a:ext cx="433440" cy="504720"/>
          </a:xfrm>
          <a:custGeom>
            <a:avLst/>
            <a:gdLst>
              <a:gd name="textAreaLeft" fmla="*/ 133920 w 433440"/>
              <a:gd name="textAreaRight" fmla="*/ 299520 w 43344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433387" h="504825">
                <a:moveTo>
                  <a:pt x="0" y="192825"/>
                </a:moveTo>
                <a:lnTo>
                  <a:pt x="165540" y="192827"/>
                </a:lnTo>
                <a:lnTo>
                  <a:pt x="216694" y="0"/>
                </a:lnTo>
                <a:lnTo>
                  <a:pt x="267847" y="192827"/>
                </a:lnTo>
                <a:lnTo>
                  <a:pt x="433387" y="192825"/>
                </a:lnTo>
                <a:lnTo>
                  <a:pt x="299462" y="311997"/>
                </a:lnTo>
                <a:lnTo>
                  <a:pt x="350618" y="504823"/>
                </a:lnTo>
                <a:lnTo>
                  <a:pt x="216694" y="385649"/>
                </a:lnTo>
                <a:lnTo>
                  <a:pt x="82769" y="504823"/>
                </a:lnTo>
                <a:lnTo>
                  <a:pt x="133925" y="31199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хема 1" descr=""/>
          <p:cNvPicPr/>
          <p:nvPr/>
        </p:nvPicPr>
        <p:blipFill>
          <a:blip r:embed="rId1"/>
          <a:stretch/>
        </p:blipFill>
        <p:spPr>
          <a:xfrm>
            <a:off x="743040" y="579600"/>
            <a:ext cx="7950240" cy="51559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2"/>
          <p:cNvSpPr/>
          <p:nvPr/>
        </p:nvSpPr>
        <p:spPr>
          <a:xfrm>
            <a:off x="2411280" y="5373720"/>
            <a:ext cx="44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рос на профессию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трелка вправо 3"/>
          <p:cNvSpPr/>
          <p:nvPr/>
        </p:nvSpPr>
        <p:spPr>
          <a:xfrm>
            <a:off x="8028000" y="6165720"/>
            <a:ext cx="504720" cy="35892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611280" y="189000"/>
            <a:ext cx="7920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одержание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лаборанта химического анализа – получение информации о химическом составе или химических свойствах тех или иных образцов жидкостей, газов, паров и твердых веществ. Осуществляет синтез веществ в лабораторных услов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такого вида чрезвычайно цен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этим данным осуществляют контроль качества сырья и готовой продукции в разных отраслях промышленности, проводят всевозможные научные эксперименты, выясняют степень загрязнения окружающей среды, определяют объем и состав удобрений, необходимых для подкормки почвы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е изделие и продукт в процессе производства в той или иной степени сталкивается с процедурой химического анали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5-конечная звезда 3"/>
          <p:cNvSpPr/>
          <p:nvPr/>
        </p:nvSpPr>
        <p:spPr>
          <a:xfrm>
            <a:off x="8459640" y="6093000"/>
            <a:ext cx="433440" cy="504720"/>
          </a:xfrm>
          <a:custGeom>
            <a:avLst/>
            <a:gdLst>
              <a:gd name="textAreaLeft" fmla="*/ 133920 w 433440"/>
              <a:gd name="textAreaRight" fmla="*/ 299520 w 43344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433387" h="504825">
                <a:moveTo>
                  <a:pt x="0" y="192825"/>
                </a:moveTo>
                <a:lnTo>
                  <a:pt x="165540" y="192827"/>
                </a:lnTo>
                <a:lnTo>
                  <a:pt x="216694" y="0"/>
                </a:lnTo>
                <a:lnTo>
                  <a:pt x="267847" y="192827"/>
                </a:lnTo>
                <a:lnTo>
                  <a:pt x="433387" y="192825"/>
                </a:lnTo>
                <a:lnTo>
                  <a:pt x="299462" y="311997"/>
                </a:lnTo>
                <a:lnTo>
                  <a:pt x="350618" y="504823"/>
                </a:lnTo>
                <a:lnTo>
                  <a:pt x="216694" y="385649"/>
                </a:lnTo>
                <a:lnTo>
                  <a:pt x="82769" y="504823"/>
                </a:lnTo>
                <a:lnTo>
                  <a:pt x="133925" y="31199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4" descr="D:\All_DATA\Desktop\конкурс профпродукции\картинки для презентации\37407b16-7018-468b-a686-70f6462b742f_600.jpg"/>
          <p:cNvPicPr/>
          <p:nvPr/>
        </p:nvPicPr>
        <p:blipFill>
          <a:blip r:embed="rId1"/>
          <a:stretch/>
        </p:blipFill>
        <p:spPr>
          <a:xfrm>
            <a:off x="2627280" y="4292640"/>
            <a:ext cx="4392720" cy="230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611280" y="620640"/>
            <a:ext cx="806436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Требования к личности специалис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ие цветоразлич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нятельная и осязательная чувствитель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ная зрительно-моторная координация на уровне движений кистей ру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ая зрительная памя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курат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нти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http://www.smazki.biz/img/dostigeniya.jpg"/>
          <p:cNvPicPr/>
          <p:nvPr/>
        </p:nvPicPr>
        <p:blipFill>
          <a:blip r:embed="rId1"/>
          <a:stretch/>
        </p:blipFill>
        <p:spPr>
          <a:xfrm>
            <a:off x="468360" y="4149720"/>
            <a:ext cx="8064360" cy="1871640"/>
          </a:xfrm>
          <a:prstGeom prst="rect">
            <a:avLst/>
          </a:prstGeom>
          <a:ln w="0">
            <a:noFill/>
          </a:ln>
        </p:spPr>
      </p:pic>
      <p:sp>
        <p:nvSpPr>
          <p:cNvPr id="129" name="5-конечная звезда 3"/>
          <p:cNvSpPr/>
          <p:nvPr/>
        </p:nvSpPr>
        <p:spPr>
          <a:xfrm>
            <a:off x="8459640" y="6093000"/>
            <a:ext cx="433440" cy="504720"/>
          </a:xfrm>
          <a:custGeom>
            <a:avLst/>
            <a:gdLst>
              <a:gd name="textAreaLeft" fmla="*/ 133920 w 433440"/>
              <a:gd name="textAreaRight" fmla="*/ 299520 w 43344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433387" h="504825">
                <a:moveTo>
                  <a:pt x="0" y="192825"/>
                </a:moveTo>
                <a:lnTo>
                  <a:pt x="165540" y="192827"/>
                </a:lnTo>
                <a:lnTo>
                  <a:pt x="216694" y="0"/>
                </a:lnTo>
                <a:lnTo>
                  <a:pt x="267847" y="192827"/>
                </a:lnTo>
                <a:lnTo>
                  <a:pt x="433387" y="192825"/>
                </a:lnTo>
                <a:lnTo>
                  <a:pt x="299462" y="311997"/>
                </a:lnTo>
                <a:lnTo>
                  <a:pt x="350618" y="504823"/>
                </a:lnTo>
                <a:lnTo>
                  <a:pt x="216694" y="385649"/>
                </a:lnTo>
                <a:lnTo>
                  <a:pt x="82769" y="504823"/>
                </a:lnTo>
                <a:lnTo>
                  <a:pt x="133925" y="31199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684360" y="404640"/>
            <a:ext cx="8064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буч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рский институт индустрии питания и бизнеса (филиал) ФГБОУ ВПО «Московский государственный университет технологий и управления имени К.Г.Разумовского»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итут технологий пищевых производств: кафедра «Неорганическая и аналитическая химия имени Клячко Ю.А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рский учебно – курсовой комби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ПО «Губернский колледж» г. Сызр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ПО «Чапаевский химико-технологический технику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http://www.dexteyra.com/images/902_erp_in_life_sciences.jpg"/>
          <p:cNvPicPr/>
          <p:nvPr/>
        </p:nvPicPr>
        <p:blipFill>
          <a:blip r:embed="rId1"/>
          <a:stretch/>
        </p:blipFill>
        <p:spPr>
          <a:xfrm>
            <a:off x="2340000" y="3573360"/>
            <a:ext cx="4319640" cy="2916360"/>
          </a:xfrm>
          <a:prstGeom prst="rect">
            <a:avLst/>
          </a:prstGeom>
          <a:ln w="0">
            <a:noFill/>
          </a:ln>
        </p:spPr>
      </p:pic>
      <p:sp>
        <p:nvSpPr>
          <p:cNvPr id="132" name="5-конечная звезда 3"/>
          <p:cNvSpPr/>
          <p:nvPr/>
        </p:nvSpPr>
        <p:spPr>
          <a:xfrm>
            <a:off x="8459640" y="6093000"/>
            <a:ext cx="433440" cy="504720"/>
          </a:xfrm>
          <a:custGeom>
            <a:avLst/>
            <a:gdLst>
              <a:gd name="textAreaLeft" fmla="*/ 133920 w 433440"/>
              <a:gd name="textAreaRight" fmla="*/ 299520 w 43344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433387" h="504825">
                <a:moveTo>
                  <a:pt x="0" y="192825"/>
                </a:moveTo>
                <a:lnTo>
                  <a:pt x="165540" y="192827"/>
                </a:lnTo>
                <a:lnTo>
                  <a:pt x="216694" y="0"/>
                </a:lnTo>
                <a:lnTo>
                  <a:pt x="267847" y="192827"/>
                </a:lnTo>
                <a:lnTo>
                  <a:pt x="433387" y="192825"/>
                </a:lnTo>
                <a:lnTo>
                  <a:pt x="299462" y="311997"/>
                </a:lnTo>
                <a:lnTo>
                  <a:pt x="350618" y="504823"/>
                </a:lnTo>
                <a:lnTo>
                  <a:pt x="216694" y="385649"/>
                </a:lnTo>
                <a:lnTo>
                  <a:pt x="82769" y="504823"/>
                </a:lnTo>
                <a:lnTo>
                  <a:pt x="133925" y="31199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900000" y="47628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прос на професс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68360" y="907920"/>
            <a:ext cx="784872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едприятиях по переработке, хранению и реализации сельскохозяйственного сырья и продуктов общественного п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учно-исследовательских и испытательных цент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абораториях контроля качества сырья и проду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едприятиях пищевого машиностро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жбах сертификации пищевых продуктов и сыр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едприятиях химической, нефтехимической, радиотехнической, электротехнической, машиностроительной промышл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5-конечная звезда 3"/>
          <p:cNvSpPr/>
          <p:nvPr/>
        </p:nvSpPr>
        <p:spPr>
          <a:xfrm>
            <a:off x="8388360" y="5516640"/>
            <a:ext cx="431640" cy="504720"/>
          </a:xfrm>
          <a:custGeom>
            <a:avLst/>
            <a:gdLst>
              <a:gd name="textAreaLeft" fmla="*/ 133200 w 431640"/>
              <a:gd name="textAreaRight" fmla="*/ 298440 w 43164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431800" h="504825">
                <a:moveTo>
                  <a:pt x="0" y="192825"/>
                </a:moveTo>
                <a:lnTo>
                  <a:pt x="164934" y="192827"/>
                </a:lnTo>
                <a:lnTo>
                  <a:pt x="215900" y="0"/>
                </a:lnTo>
                <a:lnTo>
                  <a:pt x="266866" y="192827"/>
                </a:lnTo>
                <a:lnTo>
                  <a:pt x="431800" y="192825"/>
                </a:lnTo>
                <a:lnTo>
                  <a:pt x="298365" y="311997"/>
                </a:lnTo>
                <a:lnTo>
                  <a:pt x="349334" y="504823"/>
                </a:lnTo>
                <a:lnTo>
                  <a:pt x="215900" y="385649"/>
                </a:lnTo>
                <a:lnTo>
                  <a:pt x="82466" y="504823"/>
                </a:lnTo>
                <a:lnTo>
                  <a:pt x="133435" y="31199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трелка вправо 4"/>
          <p:cNvSpPr/>
          <p:nvPr/>
        </p:nvSpPr>
        <p:spPr>
          <a:xfrm>
            <a:off x="8459640" y="6237360"/>
            <a:ext cx="505080" cy="36036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611280" y="262440"/>
            <a:ext cx="810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Требования к личности специалис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ое мышл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хнические способ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концентрации и устойчивости вним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длительное время заниматься кропотливой работ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я помехоустойчив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ая память на символы и зна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ая ручная мотор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ее обоня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ость, аккуратность, четкость, собран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знательность, усидчивость, терпелив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uslide.ru/images/3/10057/960/img6.jpg"/>
          <p:cNvPicPr/>
          <p:nvPr/>
        </p:nvPicPr>
        <p:blipFill>
          <a:blip r:embed="rId1"/>
          <a:stretch/>
        </p:blipFill>
        <p:spPr>
          <a:xfrm>
            <a:off x="4932360" y="414972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52" name="5-конечная звезда 3">
            <a:hlinkClick r:id="rId2" action="ppaction://hlinksldjump"/>
          </p:cNvPr>
          <p:cNvSpPr/>
          <p:nvPr/>
        </p:nvSpPr>
        <p:spPr>
          <a:xfrm>
            <a:off x="8459640" y="6093000"/>
            <a:ext cx="433440" cy="504720"/>
          </a:xfrm>
          <a:custGeom>
            <a:avLst/>
            <a:gdLst>
              <a:gd name="textAreaLeft" fmla="*/ 133920 w 433440"/>
              <a:gd name="textAreaRight" fmla="*/ 299520 w 43344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433387" h="504825">
                <a:moveTo>
                  <a:pt x="0" y="192825"/>
                </a:moveTo>
                <a:lnTo>
                  <a:pt x="165540" y="192827"/>
                </a:lnTo>
                <a:lnTo>
                  <a:pt x="216694" y="0"/>
                </a:lnTo>
                <a:lnTo>
                  <a:pt x="267847" y="192827"/>
                </a:lnTo>
                <a:lnTo>
                  <a:pt x="433387" y="192825"/>
                </a:lnTo>
                <a:lnTo>
                  <a:pt x="299462" y="311997"/>
                </a:lnTo>
                <a:lnTo>
                  <a:pt x="350618" y="504823"/>
                </a:lnTo>
                <a:lnTo>
                  <a:pt x="216694" y="385649"/>
                </a:lnTo>
                <a:lnTo>
                  <a:pt x="82769" y="504823"/>
                </a:lnTo>
                <a:lnTo>
                  <a:pt x="133925" y="31199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468360" y="260280"/>
            <a:ext cx="8280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буч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рский государственный технический универс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ь «Химическая технология органических вещест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ь «Химическая технология природных энергоносителей и углеродных материал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ь «Химическая технология высокомолекулярных соединен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яттинский государственный универс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«Химия и химические технолог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ВПО Самарская государственная областная академия (Наянов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ко-биологический факуль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http://user.vse42.ru/files/ui-50adb35fe98fb8.95019817.jpeg"/>
          <p:cNvPicPr/>
          <p:nvPr/>
        </p:nvPicPr>
        <p:blipFill>
          <a:blip r:embed="rId1"/>
          <a:stretch/>
        </p:blipFill>
        <p:spPr>
          <a:xfrm>
            <a:off x="2627280" y="3767040"/>
            <a:ext cx="4249800" cy="2830680"/>
          </a:xfrm>
          <a:prstGeom prst="rect">
            <a:avLst/>
          </a:prstGeom>
          <a:ln w="0">
            <a:noFill/>
          </a:ln>
        </p:spPr>
      </p:pic>
      <p:sp>
        <p:nvSpPr>
          <p:cNvPr id="55" name="5-конечная звезда 3">
            <a:hlinkClick r:id="rId2" action="ppaction://hlinksldjump"/>
          </p:cNvPr>
          <p:cNvSpPr/>
          <p:nvPr/>
        </p:nvSpPr>
        <p:spPr>
          <a:xfrm>
            <a:off x="8459640" y="6093000"/>
            <a:ext cx="433440" cy="504720"/>
          </a:xfrm>
          <a:custGeom>
            <a:avLst/>
            <a:gdLst>
              <a:gd name="textAreaLeft" fmla="*/ 133920 w 433440"/>
              <a:gd name="textAreaRight" fmla="*/ 299520 w 43344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433387" h="504825">
                <a:moveTo>
                  <a:pt x="0" y="192825"/>
                </a:moveTo>
                <a:lnTo>
                  <a:pt x="165540" y="192827"/>
                </a:lnTo>
                <a:lnTo>
                  <a:pt x="216694" y="0"/>
                </a:lnTo>
                <a:lnTo>
                  <a:pt x="267847" y="192827"/>
                </a:lnTo>
                <a:lnTo>
                  <a:pt x="433387" y="192825"/>
                </a:lnTo>
                <a:lnTo>
                  <a:pt x="299462" y="311997"/>
                </a:lnTo>
                <a:lnTo>
                  <a:pt x="350618" y="504823"/>
                </a:lnTo>
                <a:lnTo>
                  <a:pt x="216694" y="385649"/>
                </a:lnTo>
                <a:lnTo>
                  <a:pt x="82769" y="504823"/>
                </a:lnTo>
                <a:lnTo>
                  <a:pt x="133925" y="31199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хема 1" descr=""/>
          <p:cNvPicPr/>
          <p:nvPr/>
        </p:nvPicPr>
        <p:blipFill>
          <a:blip r:embed="rId1"/>
          <a:stretch/>
        </p:blipFill>
        <p:spPr>
          <a:xfrm>
            <a:off x="743040" y="615960"/>
            <a:ext cx="7950240" cy="5119560"/>
          </a:xfrm>
          <a:prstGeom prst="rect">
            <a:avLst/>
          </a:prstGeom>
          <a:ln w="0">
            <a:noFill/>
          </a:ln>
        </p:spPr>
      </p:pic>
      <p:sp>
        <p:nvSpPr>
          <p:cNvPr id="57" name="Стрелка вправо 3">
            <a:hlinkClick r:id="rId2" action="ppaction://hlinksldjump"/>
          </p:cNvPr>
          <p:cNvSpPr/>
          <p:nvPr/>
        </p:nvSpPr>
        <p:spPr>
          <a:xfrm>
            <a:off x="8028000" y="6165720"/>
            <a:ext cx="504720" cy="35892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468360" y="189000"/>
            <a:ext cx="8261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одержание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производственно-технологической, организационно-управленческой, проектно-конструкторской и исследовательской деятель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организации технологических процессов производства химических веществ, выбор оптимальных условий проведения этих процессов, моделирование и описание их математическими метод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и расчет экономической эффективности технологических линий и реконструируемых предприят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исследований и экспериментов в области получения продукции с заданными свойствами в заводских, лабораторных услов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контроля за ходом технологических процессов и качеством сырья, полуфабрикатов, готовой проду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технологического обслуживания и эффективного использования оборудования и механиз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D:\All_DATA\Desktop\конкурс профпродукции\картинки для презентации\химик-инженер.jpg"/>
          <p:cNvPicPr/>
          <p:nvPr/>
        </p:nvPicPr>
        <p:blipFill>
          <a:blip r:embed="rId1"/>
          <a:stretch/>
        </p:blipFill>
        <p:spPr>
          <a:xfrm>
            <a:off x="6156360" y="5229360"/>
            <a:ext cx="2376360" cy="1584360"/>
          </a:xfrm>
          <a:prstGeom prst="rect">
            <a:avLst/>
          </a:prstGeom>
          <a:ln w="0">
            <a:noFill/>
          </a:ln>
        </p:spPr>
      </p:pic>
      <p:sp>
        <p:nvSpPr>
          <p:cNvPr id="60" name="5-конечная звезда 3">
            <a:hlinkClick r:id="rId2" action="ppaction://hlinksldjump"/>
          </p:cNvPr>
          <p:cNvSpPr/>
          <p:nvPr/>
        </p:nvSpPr>
        <p:spPr>
          <a:xfrm>
            <a:off x="8532720" y="6093000"/>
            <a:ext cx="432000" cy="504720"/>
          </a:xfrm>
          <a:custGeom>
            <a:avLst/>
            <a:gdLst>
              <a:gd name="textAreaLeft" fmla="*/ 133560 w 432000"/>
              <a:gd name="textAreaRight" fmla="*/ 298440 w 43200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431800" h="504825">
                <a:moveTo>
                  <a:pt x="0" y="192825"/>
                </a:moveTo>
                <a:lnTo>
                  <a:pt x="164934" y="192827"/>
                </a:lnTo>
                <a:lnTo>
                  <a:pt x="215900" y="0"/>
                </a:lnTo>
                <a:lnTo>
                  <a:pt x="266866" y="192827"/>
                </a:lnTo>
                <a:lnTo>
                  <a:pt x="431800" y="192825"/>
                </a:lnTo>
                <a:lnTo>
                  <a:pt x="298365" y="311997"/>
                </a:lnTo>
                <a:lnTo>
                  <a:pt x="349334" y="504823"/>
                </a:lnTo>
                <a:lnTo>
                  <a:pt x="215900" y="385649"/>
                </a:lnTo>
                <a:lnTo>
                  <a:pt x="82466" y="504823"/>
                </a:lnTo>
                <a:lnTo>
                  <a:pt x="133435" y="31199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611280" y="476280"/>
            <a:ext cx="781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Требования к личности специалис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ое логическое и интуитивное мышл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ранственное вообра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ая долговременная и оперативная памя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к концентрации и распределению вним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ий склад 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курат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ность к исследователь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й кругозо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ские способ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http://www.rt-online.ru/images/photos/2004/03/p-2-1203_79983449074.jpg"/>
          <p:cNvPicPr/>
          <p:nvPr/>
        </p:nvPicPr>
        <p:blipFill>
          <a:blip r:embed="rId1"/>
          <a:stretch/>
        </p:blipFill>
        <p:spPr>
          <a:xfrm>
            <a:off x="4932360" y="4149720"/>
            <a:ext cx="3205080" cy="2408400"/>
          </a:xfrm>
          <a:prstGeom prst="rect">
            <a:avLst/>
          </a:prstGeom>
          <a:ln w="0">
            <a:noFill/>
          </a:ln>
        </p:spPr>
      </p:pic>
      <p:sp>
        <p:nvSpPr>
          <p:cNvPr id="63" name="5-конечная звезда 3">
            <a:hlinkClick r:id="rId2" action="ppaction://hlinksldjump"/>
          </p:cNvPr>
          <p:cNvSpPr/>
          <p:nvPr/>
        </p:nvSpPr>
        <p:spPr>
          <a:xfrm>
            <a:off x="8459640" y="6093000"/>
            <a:ext cx="433440" cy="504720"/>
          </a:xfrm>
          <a:custGeom>
            <a:avLst/>
            <a:gdLst>
              <a:gd name="textAreaLeft" fmla="*/ 133920 w 433440"/>
              <a:gd name="textAreaRight" fmla="*/ 299520 w 43344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433387" h="504825">
                <a:moveTo>
                  <a:pt x="0" y="192825"/>
                </a:moveTo>
                <a:lnTo>
                  <a:pt x="165540" y="192827"/>
                </a:lnTo>
                <a:lnTo>
                  <a:pt x="216694" y="0"/>
                </a:lnTo>
                <a:lnTo>
                  <a:pt x="267847" y="192827"/>
                </a:lnTo>
                <a:lnTo>
                  <a:pt x="433387" y="192825"/>
                </a:lnTo>
                <a:lnTo>
                  <a:pt x="299462" y="311997"/>
                </a:lnTo>
                <a:lnTo>
                  <a:pt x="350618" y="504823"/>
                </a:lnTo>
                <a:lnTo>
                  <a:pt x="216694" y="385649"/>
                </a:lnTo>
                <a:lnTo>
                  <a:pt x="82769" y="504823"/>
                </a:lnTo>
                <a:lnTo>
                  <a:pt x="133925" y="31199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539640" y="69228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бу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рский государственный технически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ь «Технология органических красителей, пигментов и лакокрасочных материал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ь «Технология переработки пластических масс и эластомер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яттинский государственны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 «Химия и химические технолог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http://opis.pro/wp-content/uploads/2015/02/injener-himik.jpg"/>
          <p:cNvPicPr/>
          <p:nvPr/>
        </p:nvPicPr>
        <p:blipFill>
          <a:blip r:embed="rId1"/>
          <a:stretch/>
        </p:blipFill>
        <p:spPr>
          <a:xfrm>
            <a:off x="2340000" y="3213000"/>
            <a:ext cx="4613400" cy="3054600"/>
          </a:xfrm>
          <a:prstGeom prst="rect">
            <a:avLst/>
          </a:prstGeom>
          <a:ln w="0">
            <a:noFill/>
          </a:ln>
        </p:spPr>
      </p:pic>
      <p:sp>
        <p:nvSpPr>
          <p:cNvPr id="66" name="5-конечная звезда 3">
            <a:hlinkClick r:id="rId2" action="ppaction://hlinksldjump"/>
          </p:cNvPr>
          <p:cNvSpPr/>
          <p:nvPr/>
        </p:nvSpPr>
        <p:spPr>
          <a:xfrm>
            <a:off x="8459640" y="6093000"/>
            <a:ext cx="433440" cy="504720"/>
          </a:xfrm>
          <a:custGeom>
            <a:avLst/>
            <a:gdLst>
              <a:gd name="textAreaLeft" fmla="*/ 133920 w 433440"/>
              <a:gd name="textAreaRight" fmla="*/ 299520 w 43344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433387" h="504825">
                <a:moveTo>
                  <a:pt x="0" y="192825"/>
                </a:moveTo>
                <a:lnTo>
                  <a:pt x="165540" y="192827"/>
                </a:lnTo>
                <a:lnTo>
                  <a:pt x="216694" y="0"/>
                </a:lnTo>
                <a:lnTo>
                  <a:pt x="267847" y="192827"/>
                </a:lnTo>
                <a:lnTo>
                  <a:pt x="433387" y="192825"/>
                </a:lnTo>
                <a:lnTo>
                  <a:pt x="299462" y="311997"/>
                </a:lnTo>
                <a:lnTo>
                  <a:pt x="350618" y="504823"/>
                </a:lnTo>
                <a:lnTo>
                  <a:pt x="216694" y="385649"/>
                </a:lnTo>
                <a:lnTo>
                  <a:pt x="82769" y="504823"/>
                </a:lnTo>
                <a:lnTo>
                  <a:pt x="133925" y="31199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3T16:35:22Z</dcterms:created>
  <dc:creator> </dc:creator>
  <dc:description/>
  <dc:language>en-US</dc:language>
  <cp:lastModifiedBy> </cp:lastModifiedBy>
  <dcterms:modified xsi:type="dcterms:W3CDTF">2015-10-14T17:59:04Z</dcterms:modified>
  <cp:revision>47</cp:revision>
  <dc:subject/>
  <dc:title>Химик – профессия будущего</dc:title>
</cp:coreProperties>
</file>